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E608-1E0E-4412-841A-91267E6F2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E51D-1B91-4840-806F-B22F47DAD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21AC-E7EE-4C08-850F-8377D1A79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1887-1F5B-47A5-90AC-C8617D1D3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37B8-7034-4355-AF0F-1FE74C2AF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B9D82-DB44-47EA-8757-0A3EBACF07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0989A-42FE-4979-ABC4-B3E1A44F3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3ACCD-C809-4124-9909-363DB6B25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EB6EF-4A1F-4846-8D25-7BED3FB334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747BE-779C-41A6-ABE3-E97D3428A6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D96F7-BDB0-4AC5-A2BB-03643F752E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997CD-9612-45BE-9046-4247DFB727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04102-C320-43A4-9A7D-BAFF8683F4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5C285-1884-40FF-9CBF-B0D67E13A7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86E37-B459-49EF-9435-D814F997A4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AC905-85B4-4BBD-BD4C-3DEE2A18B6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8B031-BCBA-4F94-A7A9-E511DB7A7C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FB94-F825-4282-B6EF-C028D4740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5744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Charles Wilson</cp:lastModifiedBy>
  <dcterms:modified xsi:type="dcterms:W3CDTF">2008-06-02T13:26:47Z</dcterms:modified>
  <cp:revision>81</cp:revision>
  <dc:subject/>
  <dc:title>AT Basic System Example</dc:title>
</cp:coreProperties>
</file>