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E036-B5C2-4B11-8B64-CD5ED2A80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F2C6-F0D9-4786-AC6D-4B16E8EDB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E117-9BDA-471F-9164-A24138869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E354-4615-45D1-A327-F6C6D33AD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537B-4A39-474B-9B1E-FDACCB70B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3ACD4-E9F5-4C8D-BFC9-003185E4B7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EE4A5-C8FD-4379-A18B-0A2B0D4F4C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FF5D8-EB8C-4475-A10C-6FD5527BB7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903DF-1C27-49D3-B8A9-41250A49CF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3B4B1-A3B3-42F9-AB89-9D26A827AA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86F84-2754-4E4A-B7EC-BF807AC915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3A1E8-644A-4C40-B57F-44C99B3F29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140F0-6182-424B-A647-0C0D83A3BC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8E357-B9EF-407C-82E1-194010BD91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57B61-4129-4527-87BF-F5B941F739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55B45-8000-4698-AA38-CE3ECE0477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1E1F7-E785-4255-B7E0-9B535CC86B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4571-5242-42B9-9F10-7693BD934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4T22:13:32Z</dcterms:modified>
  <cp:revision>84</cp:revision>
  <dc:subject/>
  <dc:title>AT Basic System Example</dc:title>
</cp:coreProperties>
</file>