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3F8C-F345-40CC-9625-F045BEB00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C932-C073-4283-91A6-1C800609A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AA0D-F4E2-4590-88B5-33FB01EE0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BA2D-0B9A-4021-86D8-5051DE170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0CE4-91E1-4848-89B4-AEF7D8144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D767-29D9-46EA-B6FB-630AEBC4A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DCD54-8334-4E44-B66A-3346819E8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38F9D-BD0A-4DB5-BC78-D845ABC39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CF467-FFF8-4087-A50D-9D2524F6F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17E14-B86B-4682-82EF-80503D665C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30A97-558D-466A-A7A6-BE93E549C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DCD96-7000-4CFD-808D-95A4C81EA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BFEDD-5947-4FD6-8C1B-63678EB94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85B7D-4EF0-4FE5-AA12-91F023A275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D72E-82D0-4507-9946-3D4B88B570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A73D-12D0-46CC-8CCE-AD29207D6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5D5D-E45D-4D17-95ED-CAAC750DD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E5D7-D303-4FEC-92F9-28122916D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Jack Donovan</cp:lastModifiedBy>
  <dcterms:modified xsi:type="dcterms:W3CDTF">2009-06-25T22:10:05Z</dcterms:modified>
  <cp:revision>83</cp:revision>
  <dc:subject/>
  <dc:title>AT Basic System Example</dc:title>
</cp:coreProperties>
</file>