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AB5C-510A-4FC8-AB2F-D4EBFB978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4FED-9BE0-4BCE-9B10-3BAA85E0E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ED42-9522-4645-B4DF-92A7904E3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C96F-9222-4220-9D07-98B7F998B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C554-9F7B-42E3-AEDD-29C2DD0ED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81BB-7AF1-4781-B861-E859A0A7B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BA4EC-5473-4F64-988D-E5CD450A6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5294-86C1-4FF7-AD17-DC2A8D9AF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4007-7B16-4D29-9AB5-C6FD3347E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F33B-22FF-4F01-A069-C3D4640F6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0C23C-5628-4FCE-9752-5316976F0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CC6D-A8F0-4DF6-A21D-3B8B6CC3E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7172-E12C-4114-95B0-2ADD57BF6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D7A59-91C4-4962-8A0A-0A18F41B2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E029-2A52-43F0-8E23-4E9905ED5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3C84-6DC8-4568-8781-F8487B107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9078-56CA-45D8-A336-5771BA015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68FD-04C2-421F-8CE6-D43682FE8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5T22:07:33Z</dcterms:modified>
  <cp:revision>86</cp:revision>
  <dc:subject/>
  <dc:title>AT Basic System Example</dc:title>
</cp:coreProperties>
</file>