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21705-6C6C-409D-9843-83C2A8FDE5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E2D24-508E-438E-B260-51BFD83B36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E3705-FDE4-49D8-B946-DD3B185CFF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D915D-C19A-4786-B48F-37A630E699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3BD18-F14C-4F2F-8739-AFC1148D61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340744-5726-4C10-9F41-2A5488A5D4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325B23-21AC-4FA2-9CEE-360C71A2F9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64A59A-3276-480D-8CBC-B2B75240DA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6509EC-FC95-4B81-A65E-7ED0618930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804CA4-03B5-480B-874E-E5B0773CDFD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99F960-560A-441E-BDFB-C13DE79049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6C94D3-EEF3-4F2C-87D3-FABD8D7E34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9763CA-D7B7-4F8B-A6F2-1AB0196DA6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379517-7725-466A-A1D2-F7FEB97F4E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49D2DA-3AD8-4181-98C8-E72AE2BC6C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DCB9C3-5F54-4FB9-9D0D-2CB00FA1DF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F404C2-EC98-4DFF-8EEB-A9ADE6A1DF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48E80-9549-4190-89A6-13D17A61DF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ies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Jack Donovan</cp:lastModifiedBy>
  <cp:lastPrinted>2008-06-04T18:30:41Z</cp:lastPrinted>
  <dcterms:modified xsi:type="dcterms:W3CDTF">2009-05-04T21:38:14Z</dcterms:modified>
  <cp:revision>91</cp:revision>
  <dc:subject/>
  <dc:title>AT Basic System Example</dc:title>
</cp:coreProperties>
</file>