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B5C85-B760-4641-B52B-C316FA4F69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8382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0880" y="4395240"/>
            <a:ext cx="8382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01623-D243-4524-881D-2DD2A43ACF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604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80880" y="439524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6040" y="439524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55A0D-3FCD-4170-9D1B-AEBB0D28D2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15160" y="228600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49440" y="228600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80880" y="439524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15160" y="439524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49440" y="439524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2EAA1-2D6B-4EC4-97F5-150CA84C58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0880" y="228600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409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040" y="2286000"/>
            <a:ext cx="409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80880" y="837720"/>
            <a:ext cx="8382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2286000"/>
            <a:ext cx="409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0880" y="439524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80880" y="228600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94016-D13B-4ACA-A03A-94E36DFAAA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409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040" y="439524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04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0880" y="4395240"/>
            <a:ext cx="8382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8382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0880" y="4395240"/>
            <a:ext cx="8382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04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0880" y="439524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040" y="439524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15160" y="228600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49440" y="228600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0880" y="439524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15160" y="439524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49440" y="439524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F8720-6169-4799-B292-D2D135716E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409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040" y="2286000"/>
            <a:ext cx="409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CAF36-24E8-422B-BA99-9AF2D00A52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1126C-85C7-4A53-9D14-E9FAB06E1D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80880" y="837720"/>
            <a:ext cx="8382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B5354-F482-4845-B911-AF978B9832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6040" y="2286000"/>
            <a:ext cx="409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80880" y="439524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C9C5F-7CC1-4B82-999A-25001E9B63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409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604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6040" y="439524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145C8-4137-4635-8AF0-270F14E512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604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880" y="4395240"/>
            <a:ext cx="8382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1BBE6-8255-4ED4-9C02-995B51C079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7262" t="6352" r="10487" b="3395"/>
          <a:stretch/>
        </p:blipFill>
        <p:spPr>
          <a:xfrm>
            <a:off x="685800" y="1219320"/>
            <a:ext cx="7772400" cy="541008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rcRect l="0" t="0" r="0" b="54366"/>
          <a:stretch/>
        </p:blipFill>
        <p:spPr>
          <a:xfrm>
            <a:off x="2495520" y="434880"/>
            <a:ext cx="6191280" cy="40320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4"/>
          <a:stretch/>
        </p:blipFill>
        <p:spPr>
          <a:xfrm>
            <a:off x="668160" y="284040"/>
            <a:ext cx="1541520" cy="478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228600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752480"/>
            <a:ext cx="8226360" cy="0"/>
          </a:xfrm>
          <a:prstGeom prst="line">
            <a:avLst/>
          </a:prstGeom>
          <a:ln w="38160">
            <a:solidFill>
              <a:srgbClr val="ff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80880" y="647712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 OCP-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7BAA7-8276-4516-B505-4D8430D2A37D}" type="slidenum">
              <a:rPr b="1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rcRect l="0" t="5707" r="0" b="0"/>
          <a:stretch/>
        </p:blipFill>
        <p:spPr>
          <a:xfrm>
            <a:off x="457200" y="2209680"/>
            <a:ext cx="8305920" cy="42674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57200" y="2038320"/>
            <a:ext cx="8318520" cy="182520"/>
          </a:xfrm>
          <a:prstGeom prst="rect">
            <a:avLst/>
          </a:prstGeom>
          <a:solidFill>
            <a:srgbClr val="ff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533520" y="380880"/>
            <a:ext cx="2889000" cy="8938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rcRect l="0" t="0" r="0" b="76113"/>
          <a:stretch/>
        </p:blipFill>
        <p:spPr>
          <a:xfrm>
            <a:off x="609480" y="1676520"/>
            <a:ext cx="8247240" cy="2808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35049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6629400"/>
            <a:ext cx="838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OCP-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OCP-IP SLD WG Outp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19112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5542200" y="1884240"/>
            <a:ext cx="3165120" cy="1031400"/>
          </a:xfrm>
          <a:prstGeom prst="rect">
            <a:avLst/>
          </a:prstGeom>
          <a:solidFill>
            <a:srgbClr val="ffff00"/>
          </a:solidFill>
          <a:ln w="57240">
            <a:solidFill>
              <a:srgbClr val="ffff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Regular Releas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Features constantly add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Backward compatibility maintain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Support for OCP-IP deliver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Already planning future releas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3962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905120" y="3962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91120" y="3962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324480" y="3962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523880" y="44197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19920" y="44197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886200" y="44197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52280" y="44197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46280" y="544356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5334120"/>
            <a:ext cx="930240" cy="4287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July 2003: 1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62120" y="4267080"/>
            <a:ext cx="75960" cy="106704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295280" y="4267080"/>
            <a:ext cx="304920" cy="121932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295280" y="5562720"/>
            <a:ext cx="930240" cy="4287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ept 2003: 1.1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2895480"/>
            <a:ext cx="761760" cy="121932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4920" y="2362320"/>
            <a:ext cx="1234800" cy="4287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c 2003: OCP 2.0 Support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2057040" y="2971800"/>
            <a:ext cx="228600" cy="114300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752480" y="2057400"/>
            <a:ext cx="1143000" cy="5961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eb 2004: 2.01 &amp; Adapters Introduc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4267080"/>
            <a:ext cx="304920" cy="167652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362320" y="6019920"/>
            <a:ext cx="930240" cy="4287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eb 2004: 2.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200400" y="4267080"/>
            <a:ext cx="152280" cy="76212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895480" y="5105520"/>
            <a:ext cx="930240" cy="5961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ug 2004: Monitors Introduc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95680" y="4267080"/>
            <a:ext cx="228600" cy="137160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267080" y="5715000"/>
            <a:ext cx="930240" cy="5961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eb 2005: OCP 2.1 Support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3504960" y="3276720"/>
            <a:ext cx="75960" cy="91440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048120" y="2743200"/>
            <a:ext cx="930240" cy="4287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ct 2004: 2.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267080" y="2666880"/>
            <a:ext cx="990720" cy="144792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352680" y="1981080"/>
            <a:ext cx="1828800" cy="5961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July 2005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CP 2.1.1 &amp; Example Package Releas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486400" y="5791320"/>
            <a:ext cx="1295280" cy="7635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arch 2006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CP 2.1.2 &amp; TL3 Channel Introduc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6171840" y="4267080"/>
            <a:ext cx="609480" cy="144792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867280" y="3124080"/>
            <a:ext cx="1143000" cy="4287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pril 2006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CP 2.1.2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477120" y="3581280"/>
            <a:ext cx="380880" cy="53352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05720" y="5105520"/>
            <a:ext cx="1143000" cy="5961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ay 2006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heckers Introduc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010280" y="4267080"/>
            <a:ext cx="228600" cy="76212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162920" y="3276720"/>
            <a:ext cx="1218960" cy="4287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ct 2006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CP 2.1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772400" y="3733920"/>
            <a:ext cx="152280" cy="38088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0F978-6E0E-4A30-AE74-E390151983CB}" type="slidenum">
              <a:t>1</a:t>
            </a:fld>
          </a:p>
        </p:txBody>
      </p:sp>
    </p:spTree>
  </p:cSld>
  <p:transition spd="med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2T18:53:25Z</dcterms:created>
  <dc:creator>OCP-IP Administration</dc:creator>
  <dc:description/>
  <dc:language>en-US</dc:language>
  <cp:lastModifiedBy>aluukinen</cp:lastModifiedBy>
  <dcterms:modified xsi:type="dcterms:W3CDTF">2006-10-31T18:52:52Z</dcterms:modified>
  <cp:revision>168</cp:revision>
  <dc:subject/>
  <dc:title>OCP-IP Introductory Presentation</dc:title>
</cp:coreProperties>
</file>