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D7BBE-8FDD-432D-A79A-C4A76BBBD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91680-1389-4ED3-A548-F084C4195F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6475C-6D7C-4383-9FEA-B9650EB255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A80F6-1C4F-42C2-AF65-6523554754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5AF6F-FD56-4899-AC74-6FC33E18DF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47A28-BF9D-49D9-9D7A-4D1C1013B7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197C2-6B5B-4C37-8A2F-C3C8A110C0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1D856-39CC-40E8-B665-A5DBBC1DEE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32F4E-F940-4225-8ABB-2F0EB04924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BD1EF-47B7-4D1C-B3AD-CC285F9CBC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BC66E-3830-4DA1-964D-EDE70A0E16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E2B63-C946-4494-9993-D7B48E843F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66F83-4328-498B-8E26-8AC05FE415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0A573-AB9B-40B6-A64D-0970E1736F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D2BF4-3532-465E-A9C1-B0F4FBDEC9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D29A5-C4D4-4954-994A-5BD335F81F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1ED71-BB95-435B-938A-A6F1DBA577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6FE71-5045-4A0B-A9DB-9046CF3D15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FE627-1EDA-4033-9AD4-7ADE895CE2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67D05-91E0-4E23-9904-C435F73B9C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66BF3-C940-4B8A-9B45-BEC0FEEAF6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30A5E-397D-4A0D-AC7F-9FC139970B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0840D-64ED-48BF-BCEB-6E3F1ED896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53A86-2FA2-4643-A8E9-E1FC4D76C2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45044-C7BD-42D0-8F72-250B14C4E2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3B5AB-11C6-4C68-8D90-83F3700324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C01CB-5381-41F7-BEB8-8B976D10C6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BDA53-902A-4A0F-A25C-95699DEFD2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4CA32-F234-4370-9E1F-449864A901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6F6A0-3819-4C9F-B140-404E72E5A1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91FA3-0C7E-48A0-8B33-7047662A3E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5D107-B05D-4D8E-8B91-B079EE9A82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2BE39-6EC4-4B8D-9596-002C6209E9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83A45-679D-4EB3-9650-5940EE36A6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A1A70-A478-430F-9D6C-D34F0B2BF5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1A269-C26D-4A5B-BC7B-9D8EDEBC10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F52F-AF62-4FCF-9D4D-C1481B537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91FA2-21DE-4E5C-81D8-7DACFFDCA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220E1-FEA2-43D9-92CF-D7A69F645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0D2D-3F2E-46F1-BB3D-176120EE46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B247D-A8B5-4BC1-9E23-8A592334A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E8321-F415-42CE-B852-049DBDC260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6BE04-FC06-4770-A585-AA0263F3BF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6867F-CD3E-4CA8-B5C2-F8197F81EC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75CF4-3D5A-452C-AF29-731F3437E6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F323A-6ACF-4C2F-A95C-1486A7733C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A7CBC-5310-4B3B-9F81-8719A1D28F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440B8-F532-4CCA-8EE7-1354133BA9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AAC71-09C0-4E0E-8CCE-4F26F5BCA7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71A53-7563-487F-B115-62C0CCAA5E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D1CAA-0000-488B-95A3-A29642D62D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08B41-FB9F-4175-8875-48821DC687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DEE6E-5363-4DAA-91EB-6F7D764800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6A0FF-3321-4EF6-B804-383CEB9A1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917AB-6C3B-4B17-8750-E86BF79BD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F2742-8C90-46DD-B8EF-5C6868DCE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D4F01-4107-440A-B211-527A060F8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7995-A940-44BC-8252-7F91783AAD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7D183-89B9-4A86-93F3-47DC74D7B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B94BE-85C7-42FD-B19A-802F4E08D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22DBF5-F9C5-4092-AC76-01838221BC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2891A-AE72-43A7-AF21-1455D023DA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 Parameter Value Constraint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stemC CCI W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5_Inter_Parameter_Value_Constraint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In this example, the following is condition is verifi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 x &lt;= 2^n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where, 'x' : value of 'mem_block_size' (Memory Block size)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'n' : total number of address lines - 'curr_addr_line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addr_lines_mod: @0 s, [ADDR_LINES_REG C_TOR] : Default Address Lines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memory_block: @0 s, [MEMORY_BLOCK C_TOR] : Default Memory Size :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mem_size' to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memory_block.mem_size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addr_lines_mod.curr_addr_lines Parameter Value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The address lines cannot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[CFGR] : Modify the 'curr_addr_lines'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memory_block.mem_size  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fn] : The number of address lines can now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] : Changing the 'mem_size' to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memory_block.mem_size    Parameter Value :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er_Parameter_Value_Constrai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ablishing and maintaining inter-parameter value constraints (R1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orting inter-parameter value constraint vio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ynamic ability to reject values have been explained and contrasted to (static) lock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61"/>
          <p:cNvGrpSpPr/>
          <p:nvPr/>
        </p:nvGrpSpPr>
        <p:grpSpPr>
          <a:xfrm>
            <a:off x="2438280" y="2286000"/>
            <a:ext cx="4496040" cy="2209680"/>
            <a:chOff x="2438280" y="2286000"/>
            <a:chExt cx="4496040" cy="2209680"/>
          </a:xfrm>
        </p:grpSpPr>
        <p:sp>
          <p:nvSpPr>
            <p:cNvPr id="184" name="AutoShape 23"/>
            <p:cNvSpPr/>
            <p:nvPr/>
          </p:nvSpPr>
          <p:spPr>
            <a:xfrm>
              <a:off x="2438280" y="2286000"/>
              <a:ext cx="4496040" cy="161604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‘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’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&lt;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2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 –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where,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Memory Block Size, an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Number of address 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5"/>
            <p:cNvSpPr/>
            <p:nvPr/>
          </p:nvSpPr>
          <p:spPr>
            <a:xfrm>
              <a:off x="3352680" y="4076640"/>
              <a:ext cx="2489400" cy="41904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dition to be teste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Rectangle 6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1"/>
          <p:cNvGrpSpPr/>
          <p:nvPr/>
        </p:nvGrpSpPr>
        <p:grpSpPr>
          <a:xfrm>
            <a:off x="685800" y="2438280"/>
            <a:ext cx="7696080" cy="3700080"/>
            <a:chOff x="685800" y="2438280"/>
            <a:chExt cx="7696080" cy="3700080"/>
          </a:xfrm>
        </p:grpSpPr>
        <p:sp>
          <p:nvSpPr>
            <p:cNvPr id="189" name="AutoShape 23"/>
            <p:cNvSpPr/>
            <p:nvPr/>
          </p:nvSpPr>
          <p:spPr>
            <a:xfrm>
              <a:off x="685800" y="2438280"/>
              <a:ext cx="7696080" cy="34045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3352680" y="5925960"/>
              <a:ext cx="2489400" cy="212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57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rocess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1" name="Group 19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192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6" name="Group 20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197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1" name="Group 25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02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and store the handles for interrelated parameters of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odu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5"/>
          <p:cNvSpPr/>
          <p:nvPr/>
        </p:nvSpPr>
        <p:spPr>
          <a:xfrm>
            <a:off x="1219320" y="2743200"/>
            <a:ext cx="6705360" cy="9144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s a function that checks the condition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&lt;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2</a:t>
            </a:r>
            <a:r>
              <a:rPr b="1" lang="en-US" sz="1400" spc="-1" strike="noStrike" baseline="60000">
                <a:solidFill>
                  <a:srgbClr val="000000"/>
                </a:solidFill>
                <a:latin typeface="Bitstream Charter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-1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void TestCondition( int &lt;addr_lines&gt;, int &lt;memory_size&gt; )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generates log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whether or not the condition specifed is m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3"/>
          <p:cNvGrpSpPr/>
          <p:nvPr/>
        </p:nvGrpSpPr>
        <p:grpSpPr>
          <a:xfrm>
            <a:off x="685800" y="990720"/>
            <a:ext cx="7696080" cy="5147640"/>
            <a:chOff x="685800" y="990720"/>
            <a:chExt cx="7696080" cy="5147640"/>
          </a:xfrm>
        </p:grpSpPr>
        <p:grpSp>
          <p:nvGrpSpPr>
            <p:cNvPr id="208" name="Group 2"/>
            <p:cNvGrpSpPr/>
            <p:nvPr/>
          </p:nvGrpSpPr>
          <p:grpSpPr>
            <a:xfrm>
              <a:off x="685800" y="2362320"/>
              <a:ext cx="7696080" cy="3776040"/>
              <a:chOff x="685800" y="2362320"/>
              <a:chExt cx="7696080" cy="3776040"/>
            </a:xfrm>
          </p:grpSpPr>
          <p:sp>
            <p:nvSpPr>
              <p:cNvPr id="209" name="AutoShape 23"/>
              <p:cNvSpPr/>
              <p:nvPr/>
            </p:nvSpPr>
            <p:spPr>
              <a:xfrm>
                <a:off x="685800" y="2362320"/>
                <a:ext cx="7696080" cy="347436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0" name="AutoShape 5"/>
              <p:cNvSpPr/>
              <p:nvPr/>
            </p:nvSpPr>
            <p:spPr>
              <a:xfrm>
                <a:off x="3352680" y="5921640"/>
                <a:ext cx="2489400" cy="2167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5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1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12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3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214" name="Group 6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215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9" name="Group 11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220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4" name="AutoShape 1"/>
          <p:cNvSpPr/>
          <p:nvPr/>
        </p:nvSpPr>
        <p:spPr>
          <a:xfrm>
            <a:off x="228600" y="2057400"/>
            <a:ext cx="1676520" cy="23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61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nfrastructu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1219320" y="2687760"/>
            <a:ext cx="6705360" cy="11221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rocesso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OST_WRITE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allbacks on base parameters of the child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callbacks implemention, the current values of the cci-parameters are fed to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3"/>
          <p:cNvGrpSpPr/>
          <p:nvPr/>
        </p:nvGrpSpPr>
        <p:grpSpPr>
          <a:xfrm>
            <a:off x="685800" y="990720"/>
            <a:ext cx="7696080" cy="5148000"/>
            <a:chOff x="685800" y="990720"/>
            <a:chExt cx="7696080" cy="5148000"/>
          </a:xfrm>
        </p:grpSpPr>
        <p:grpSp>
          <p:nvGrpSpPr>
            <p:cNvPr id="229" name="Group 4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sp>
            <p:nvSpPr>
              <p:cNvPr id="230" name="AutoShape 23"/>
              <p:cNvSpPr/>
              <p:nvPr/>
            </p:nvSpPr>
            <p:spPr>
              <a:xfrm>
                <a:off x="685800" y="274320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1" name="AutoShape 5"/>
              <p:cNvSpPr/>
              <p:nvPr/>
            </p:nvSpPr>
            <p:spPr>
              <a:xfrm>
                <a:off x="3352680" y="594360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3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3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42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43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4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45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30"/>
          <p:cNvGrpSpPr/>
          <p:nvPr/>
        </p:nvGrpSpPr>
        <p:grpSpPr>
          <a:xfrm>
            <a:off x="685800" y="2776680"/>
            <a:ext cx="7696080" cy="3395520"/>
            <a:chOff x="685800" y="2776680"/>
            <a:chExt cx="7696080" cy="3395520"/>
          </a:xfrm>
        </p:grpSpPr>
        <p:grpSp>
          <p:nvGrpSpPr>
            <p:cNvPr id="249" name="Group 4"/>
            <p:cNvGrpSpPr/>
            <p:nvPr/>
          </p:nvGrpSpPr>
          <p:grpSpPr>
            <a:xfrm>
              <a:off x="685800" y="2776680"/>
              <a:ext cx="7696080" cy="3395520"/>
              <a:chOff x="685800" y="2776680"/>
              <a:chExt cx="7696080" cy="3395520"/>
            </a:xfrm>
          </p:grpSpPr>
          <p:sp>
            <p:nvSpPr>
              <p:cNvPr id="250" name="AutoShape 23"/>
              <p:cNvSpPr/>
              <p:nvPr/>
            </p:nvSpPr>
            <p:spPr>
              <a:xfrm>
                <a:off x="685800" y="277668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1" name="AutoShape 5"/>
              <p:cNvSpPr/>
              <p:nvPr/>
            </p:nvSpPr>
            <p:spPr>
              <a:xfrm>
                <a:off x="3352680" y="597708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5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5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62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NOT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3" name="Group 21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64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5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6" name="Oval 49"/>
          <p:cNvSpPr/>
          <p:nvPr/>
        </p:nvSpPr>
        <p:spPr>
          <a:xfrm>
            <a:off x="6375240" y="1276200"/>
            <a:ext cx="457200" cy="381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7" name="AutoShape 28"/>
          <p:cNvCxnSpPr>
            <a:stCxn id="266" idx="4"/>
          </p:cNvCxnSpPr>
          <p:nvPr/>
        </p:nvCxnSpPr>
        <p:spPr>
          <a:xfrm flipH="1" rot="16200000">
            <a:off x="5202720" y="3066480"/>
            <a:ext cx="3182040" cy="38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68" name="Group 34"/>
          <p:cNvGrpSpPr/>
          <p:nvPr/>
        </p:nvGrpSpPr>
        <p:grpSpPr>
          <a:xfrm>
            <a:off x="5791320" y="4876920"/>
            <a:ext cx="1828800" cy="380880"/>
            <a:chOff x="5791320" y="4876920"/>
            <a:chExt cx="1828800" cy="380880"/>
          </a:xfrm>
        </p:grpSpPr>
        <p:sp>
          <p:nvSpPr>
            <p:cNvPr id="269" name="AutoShape 5"/>
            <p:cNvSpPr/>
            <p:nvPr/>
          </p:nvSpPr>
          <p:spPr>
            <a:xfrm>
              <a:off x="5791320" y="491508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0" name="Oval 49"/>
            <p:cNvSpPr/>
            <p:nvPr/>
          </p:nvSpPr>
          <p:spPr>
            <a:xfrm>
              <a:off x="5943600" y="487692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71" name="Rectangle 3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38"/>
          <p:cNvGrpSpPr/>
          <p:nvPr/>
        </p:nvGrpSpPr>
        <p:grpSpPr>
          <a:xfrm>
            <a:off x="685800" y="2743200"/>
            <a:ext cx="7696080" cy="3395520"/>
            <a:chOff x="685800" y="2743200"/>
            <a:chExt cx="7696080" cy="3395520"/>
          </a:xfrm>
        </p:grpSpPr>
        <p:grpSp>
          <p:nvGrpSpPr>
            <p:cNvPr id="274" name="Group 3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grpSp>
            <p:nvGrpSpPr>
              <p:cNvPr id="275" name="Group 4"/>
              <p:cNvGrpSpPr/>
              <p:nvPr/>
            </p:nvGrpSpPr>
            <p:grpSpPr>
              <a:xfrm>
                <a:off x="685800" y="2743200"/>
                <a:ext cx="7696080" cy="3395520"/>
                <a:chOff x="685800" y="2743200"/>
                <a:chExt cx="7696080" cy="3395520"/>
              </a:xfrm>
            </p:grpSpPr>
            <p:sp>
              <p:nvSpPr>
                <p:cNvPr id="276" name="AutoShape 23"/>
                <p:cNvSpPr/>
                <p:nvPr/>
              </p:nvSpPr>
              <p:spPr>
                <a:xfrm>
                  <a:off x="685800" y="274320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77" name="AutoShape 5"/>
                <p:cNvSpPr/>
                <p:nvPr/>
              </p:nvSpPr>
              <p:spPr>
                <a:xfrm>
                  <a:off x="3352680" y="594360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8" name="Group 7"/>
              <p:cNvGrpSpPr/>
              <p:nvPr/>
            </p:nvGrpSpPr>
            <p:grpSpPr>
              <a:xfrm>
                <a:off x="914400" y="4119480"/>
                <a:ext cx="3200400" cy="1638360"/>
                <a:chOff x="914400" y="4119480"/>
                <a:chExt cx="3200400" cy="1638360"/>
              </a:xfrm>
            </p:grpSpPr>
            <p:sp>
              <p:nvSpPr>
                <p:cNvPr id="279" name="AutoShape 5"/>
                <p:cNvSpPr/>
                <p:nvPr/>
              </p:nvSpPr>
              <p:spPr>
                <a:xfrm>
                  <a:off x="1244520" y="549108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0" name="AutoShape 5"/>
                <p:cNvSpPr/>
                <p:nvPr/>
              </p:nvSpPr>
              <p:spPr>
                <a:xfrm>
                  <a:off x="914400" y="411948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1" name="AutoShape 5"/>
                <p:cNvSpPr/>
                <p:nvPr/>
              </p:nvSpPr>
              <p:spPr>
                <a:xfrm>
                  <a:off x="990360" y="434808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2" name="AutoShape 5"/>
                <p:cNvSpPr/>
                <p:nvPr/>
              </p:nvSpPr>
              <p:spPr>
                <a:xfrm>
                  <a:off x="1600200" y="484344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3" name="Group 12"/>
              <p:cNvGrpSpPr/>
              <p:nvPr/>
            </p:nvGrpSpPr>
            <p:grpSpPr>
              <a:xfrm>
                <a:off x="4952880" y="4157640"/>
                <a:ext cx="3200400" cy="1638360"/>
                <a:chOff x="4952880" y="4157640"/>
                <a:chExt cx="3200400" cy="1638360"/>
              </a:xfrm>
            </p:grpSpPr>
            <p:sp>
              <p:nvSpPr>
                <p:cNvPr id="284" name="AutoShape 5"/>
                <p:cNvSpPr/>
                <p:nvPr/>
              </p:nvSpPr>
              <p:spPr>
                <a:xfrm>
                  <a:off x="5334120" y="5529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5" name="AutoShape 5"/>
                <p:cNvSpPr/>
                <p:nvPr/>
              </p:nvSpPr>
              <p:spPr>
                <a:xfrm>
                  <a:off x="4952880" y="4157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6" name="AutoShape 5"/>
                <p:cNvSpPr/>
                <p:nvPr/>
              </p:nvSpPr>
              <p:spPr>
                <a:xfrm>
                  <a:off x="5105520" y="4386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7" name="AutoShape 5"/>
                <p:cNvSpPr/>
                <p:nvPr/>
              </p:nvSpPr>
              <p:spPr>
                <a:xfrm>
                  <a:off x="5715000" y="4881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88" name="AutoShape 5"/>
            <p:cNvSpPr/>
            <p:nvPr/>
          </p:nvSpPr>
          <p:spPr>
            <a:xfrm>
              <a:off x="5715000" y="49528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89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 NOW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0" name="Group 18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91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5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urr_addr_line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3" name="Oval 49"/>
          <p:cNvSpPr/>
          <p:nvPr/>
        </p:nvSpPr>
        <p:spPr>
          <a:xfrm>
            <a:off x="6629400" y="128268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94" name="AutoShape 22"/>
          <p:cNvCxnSpPr>
            <a:stCxn id="293" idx="4"/>
          </p:cNvCxnSpPr>
          <p:nvPr/>
        </p:nvCxnSpPr>
        <p:spPr>
          <a:xfrm rot="5400000">
            <a:off x="3247560" y="1168200"/>
            <a:ext cx="3105720" cy="4115520"/>
          </a:xfrm>
          <a:prstGeom prst="curvedConnector5">
            <a:avLst>
              <a:gd name="adj1" fmla="val 50000"/>
              <a:gd name="adj2" fmla="val 49995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95" name="Group 29"/>
          <p:cNvGrpSpPr/>
          <p:nvPr/>
        </p:nvGrpSpPr>
        <p:grpSpPr>
          <a:xfrm>
            <a:off x="1600200" y="4800600"/>
            <a:ext cx="1828800" cy="380880"/>
            <a:chOff x="1600200" y="4800600"/>
            <a:chExt cx="1828800" cy="380880"/>
          </a:xfrm>
        </p:grpSpPr>
        <p:sp>
          <p:nvSpPr>
            <p:cNvPr id="296" name="AutoShape 5"/>
            <p:cNvSpPr/>
            <p:nvPr/>
          </p:nvSpPr>
          <p:spPr>
            <a:xfrm>
              <a:off x="160020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7" name="Oval 49"/>
            <p:cNvSpPr/>
            <p:nvPr/>
          </p:nvSpPr>
          <p:spPr>
            <a:xfrm>
              <a:off x="1752480" y="4800600"/>
              <a:ext cx="152424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8" name="Rectangle 4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685800" y="2700360"/>
            <a:ext cx="7696080" cy="3395520"/>
            <a:chOff x="685800" y="2700360"/>
            <a:chExt cx="7696080" cy="3395520"/>
          </a:xfrm>
        </p:grpSpPr>
        <p:grpSp>
          <p:nvGrpSpPr>
            <p:cNvPr id="301" name="Group 3"/>
            <p:cNvGrpSpPr/>
            <p:nvPr/>
          </p:nvGrpSpPr>
          <p:grpSpPr>
            <a:xfrm>
              <a:off x="685800" y="2700360"/>
              <a:ext cx="7696080" cy="3395520"/>
              <a:chOff x="685800" y="2700360"/>
              <a:chExt cx="7696080" cy="3395520"/>
            </a:xfrm>
          </p:grpSpPr>
          <p:grpSp>
            <p:nvGrpSpPr>
              <p:cNvPr id="302" name="Group 4"/>
              <p:cNvGrpSpPr/>
              <p:nvPr/>
            </p:nvGrpSpPr>
            <p:grpSpPr>
              <a:xfrm>
                <a:off x="685800" y="2700360"/>
                <a:ext cx="7696080" cy="3395520"/>
                <a:chOff x="685800" y="2700360"/>
                <a:chExt cx="7696080" cy="3395520"/>
              </a:xfrm>
            </p:grpSpPr>
            <p:sp>
              <p:nvSpPr>
                <p:cNvPr id="303" name="AutoShape 23"/>
                <p:cNvSpPr/>
                <p:nvPr/>
              </p:nvSpPr>
              <p:spPr>
                <a:xfrm>
                  <a:off x="685800" y="270036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4" name="AutoShape 5"/>
                <p:cNvSpPr/>
                <p:nvPr/>
              </p:nvSpPr>
              <p:spPr>
                <a:xfrm>
                  <a:off x="3352680" y="590076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05" name="Group 7"/>
              <p:cNvGrpSpPr/>
              <p:nvPr/>
            </p:nvGrpSpPr>
            <p:grpSpPr>
              <a:xfrm>
                <a:off x="914400" y="4076640"/>
                <a:ext cx="3200400" cy="1638360"/>
                <a:chOff x="914400" y="4076640"/>
                <a:chExt cx="3200400" cy="1638360"/>
              </a:xfrm>
            </p:grpSpPr>
            <p:sp>
              <p:nvSpPr>
                <p:cNvPr id="306" name="AutoShape 5"/>
                <p:cNvSpPr/>
                <p:nvPr/>
              </p:nvSpPr>
              <p:spPr>
                <a:xfrm>
                  <a:off x="1244520" y="5448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7" name="AutoShape 5"/>
                <p:cNvSpPr/>
                <p:nvPr/>
              </p:nvSpPr>
              <p:spPr>
                <a:xfrm>
                  <a:off x="914400" y="4076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990360" y="4305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9" name="AutoShape 5"/>
                <p:cNvSpPr/>
                <p:nvPr/>
              </p:nvSpPr>
              <p:spPr>
                <a:xfrm>
                  <a:off x="1600200" y="4800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0" name="Group 12"/>
              <p:cNvGrpSpPr/>
              <p:nvPr/>
            </p:nvGrpSpPr>
            <p:grpSpPr>
              <a:xfrm>
                <a:off x="4952880" y="4114800"/>
                <a:ext cx="3200400" cy="1638360"/>
                <a:chOff x="4952880" y="4114800"/>
                <a:chExt cx="3200400" cy="1638360"/>
              </a:xfrm>
            </p:grpSpPr>
            <p:sp>
              <p:nvSpPr>
                <p:cNvPr id="311" name="AutoShape 5"/>
                <p:cNvSpPr/>
                <p:nvPr/>
              </p:nvSpPr>
              <p:spPr>
                <a:xfrm>
                  <a:off x="5334120" y="548640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2" name="AutoShape 5"/>
                <p:cNvSpPr/>
                <p:nvPr/>
              </p:nvSpPr>
              <p:spPr>
                <a:xfrm>
                  <a:off x="4952880" y="411480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3" name="AutoShape 5"/>
                <p:cNvSpPr/>
                <p:nvPr/>
              </p:nvSpPr>
              <p:spPr>
                <a:xfrm>
                  <a:off x="5105520" y="434340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4" name="AutoShape 5"/>
                <p:cNvSpPr/>
                <p:nvPr/>
              </p:nvSpPr>
              <p:spPr>
                <a:xfrm>
                  <a:off x="5715000" y="483876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15" name="AutoShape 5"/>
            <p:cNvSpPr/>
            <p:nvPr/>
          </p:nvSpPr>
          <p:spPr>
            <a:xfrm>
              <a:off x="5715000" y="483840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17" name="Group 20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318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1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0" name="Oval 49"/>
          <p:cNvSpPr/>
          <p:nvPr/>
        </p:nvSpPr>
        <p:spPr>
          <a:xfrm>
            <a:off x="6375240" y="128916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21" name="AutoShape 24"/>
          <p:cNvCxnSpPr>
            <a:stCxn id="320" idx="4"/>
          </p:cNvCxnSpPr>
          <p:nvPr/>
        </p:nvCxnSpPr>
        <p:spPr>
          <a:xfrm flipH="1" rot="16200000">
            <a:off x="5202720" y="3079440"/>
            <a:ext cx="3106080" cy="3056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322" name="Group 28"/>
          <p:cNvGrpSpPr/>
          <p:nvPr/>
        </p:nvGrpSpPr>
        <p:grpSpPr>
          <a:xfrm>
            <a:off x="5791320" y="4800600"/>
            <a:ext cx="1828800" cy="380880"/>
            <a:chOff x="5791320" y="4800600"/>
            <a:chExt cx="1828800" cy="380880"/>
          </a:xfrm>
        </p:grpSpPr>
        <p:sp>
          <p:nvSpPr>
            <p:cNvPr id="323" name="AutoShape 5"/>
            <p:cNvSpPr/>
            <p:nvPr/>
          </p:nvSpPr>
          <p:spPr>
            <a:xfrm>
              <a:off x="579132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4" name="Oval 49"/>
            <p:cNvSpPr/>
            <p:nvPr/>
          </p:nvSpPr>
          <p:spPr>
            <a:xfrm>
              <a:off x="5943960" y="480060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5" name="AutoShape 5"/>
          <p:cNvSpPr/>
          <p:nvPr/>
        </p:nvSpPr>
        <p:spPr>
          <a:xfrm>
            <a:off x="1600200" y="4724280"/>
            <a:ext cx="1828800" cy="4572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Old Value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6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11T15:16:23Z</cp:lastPrinted>
  <dcterms:modified xsi:type="dcterms:W3CDTF">2017-12-17T00:07:00Z</dcterms:modified>
  <cp:revision>16</cp:revision>
  <dc:subject/>
  <dc:title>ex15_Inter_Parameter_Value_Constrai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7:00Z</vt:lpwstr>
  </property>
  <property fmtid="{D5CDD505-2E9C-101B-9397-08002B2CF9AE}" pid="5" name="TitusGUID">
    <vt:lpwstr>a6488d3d-f883-4cf3-b3a0-b041f9371bfd</vt:lpwstr>
  </property>
</Properties>
</file>