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8520" cy="33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0637D-52E6-4E62-A523-4B272AF01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85BC3-A801-44EC-9AE6-392F772019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C8CC6-4112-457C-A657-CD83EBC916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F3586-120A-4185-A9C8-5E0A68102F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AA273-5C01-4398-99A3-016AA959D4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965B9-47CE-4FBE-9EE2-44A27080FB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2B71A-5207-4B71-874C-1BAD2089D5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C3801-B297-47A1-B773-DBE7A7B31C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92325-C64E-4683-9BB8-BD20AD71A8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D85B7-8C53-4AF4-BB9D-C49785A4DF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82499-951F-47F2-B156-1AD62CA4F5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6266C-610A-4072-9A7F-311AEE7443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30B3B-6D04-4490-A958-105A0AF719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4519D-1B9B-4FF7-883B-398D560A50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DE977-329A-4E9C-9082-0495722374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4B99A-881E-4812-843E-05C90E0330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D8C3D-BACD-4F50-BD54-4D3A3818B2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B94F5-00D1-4812-8D9F-28A6863208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67275-CDA4-4DAE-986A-ABBB2B656E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4E404-C10B-4FDC-B96E-40CAB21D7D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D490D-FDC6-4996-8271-66221D129E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0DD92-7124-4297-AAC3-334D17F815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8F311-7701-49D4-840D-924CCBEAA8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BBF4B-D2FE-43F4-B4CE-A093D0010A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99D8C-8749-47A7-9212-02C7364F54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C6653-5E75-4440-9A0D-CAB9B0CAA8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74A65-8056-4C73-9799-01FFAD59CF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59568-2454-4554-B6C8-A3957D2CA2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116EC-891F-4BD6-B138-E06E0EC41D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7CD1-0B46-41FE-9A57-AE8F325F6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C619-E3A3-405E-83F3-9EB7BBF32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8DA5-FD85-45DA-93E4-9F54ED93F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DEAC-A2A3-4D26-A342-B280A3868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C191-CD7A-4C55-9007-B068D3275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50CF-592C-4F18-B382-61DF5DD8E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3941-439A-4BA7-B8E2-A7E8BCB4AB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24417-C774-487F-B2C7-F260E8094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ED2CD-3F5E-4B16-95DD-74B149D4B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D4F6-0D61-499D-B32B-E9785DC38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6EF2-3D99-4EA4-A52C-5C445BD45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B542-4ED5-4C88-B47A-1EB32E75E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48098-7AD9-46E6-AFBE-36AA9C18395F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r Defined Dat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rish Verma, P V S Phane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6D90B-CC45-42DA-8006-3E4C656715C4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533412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96252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505320" y="106668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3962520" y="2362320"/>
            <a:ext cx="495288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038480" y="3200400"/>
            <a:ext cx="449604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Documentation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676520" y="273204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5088" y="3600"/>
                </a:lnTo>
                <a:lnTo>
                  <a:pt x="-5088" y="-3350"/>
                </a:lnTo>
                <a:lnTo>
                  <a:pt x="25667" y="-4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505320" y="3962520"/>
            <a:ext cx="914400" cy="3045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3429000" y="4343400"/>
            <a:ext cx="563868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set_string "{\"s_address\":1024,\"d_address\":1280,\"index\":3}");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set_cci_value(cci::cci_value::from_json(set_string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533520" y="5041800"/>
            <a:ext cx="2819160" cy="6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68"/>
                </a:moveTo>
                <a:lnTo>
                  <a:pt x="-2104" y="3668"/>
                </a:lnTo>
                <a:lnTo>
                  <a:pt x="-2104" y="-3617"/>
                </a:lnTo>
                <a:lnTo>
                  <a:pt x="22962" y="-4687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955AD-EDD4-4A06-8656-0D687E12DE90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48640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276720" y="114300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8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88620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886200" y="2286000"/>
            <a:ext cx="510552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1024,"d_address":1280,"index":3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676520" y="266688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5667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16_User_Defined_Data_Typ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preset value 's_address:256,d_address:512,index:0' to UD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{"s_address":512,"d_address":768,"index":1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Value' : {"s_address":256,"d_address":512,"index":0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 - '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Description 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New Value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's_address:768,d_address:1024,index:2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[OWNER -&gt; Retrieve] : UDT Value 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@ 4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value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desc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Value - 's_address:1024,d_address:1280,index: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@ 8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value: {"s_address":1024,"d_address":1280,"index":3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8DED0-C2CC-4366-93A0-5778C11AF8EA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ing support for user-defined data types, including comple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ow access using both JSON values and cci_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C503D-DDBC-4FA8-AD0A-37B39207C606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019920" y="2209680"/>
            <a:ext cx="213336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2365"/>
              <a:gd name="adj5" fmla="val -128597"/>
              <a:gd name="adj6" fmla="val -6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A simple C++ class, not an SC_MODUL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895480" y="2270160"/>
            <a:ext cx="2057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703"/>
              <a:gd name="adj5" fmla="val -36365"/>
              <a:gd name="adj6" fmla="val -12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152280" y="3738600"/>
            <a:ext cx="5257800" cy="7621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please go through the            presentation for ex#8 or ex#11 and ex#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5638680" y="3390840"/>
            <a:ext cx="304812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0" y="2234"/>
                </a:moveTo>
                <a:lnTo>
                  <a:pt x="22286" y="2234"/>
                </a:lnTo>
                <a:lnTo>
                  <a:pt x="22286" y="-5617"/>
                </a:lnTo>
                <a:lnTo>
                  <a:pt x="18326" y="-134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different types of callbacks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(pre_read, pre_write &amp; post_write)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on the parameters of interest to monitor their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152280" y="5408640"/>
            <a:ext cx="44197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b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displayed by the shape on th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518148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3600"/>
                </a:moveTo>
                <a:lnTo>
                  <a:pt x="-4230" y="3600"/>
                </a:lnTo>
                <a:lnTo>
                  <a:pt x="-4230" y="100"/>
                </a:lnTo>
                <a:lnTo>
                  <a:pt x="3630" y="-7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152280" y="2514600"/>
            <a:ext cx="2057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2115"/>
              <a:gd name="adj5" fmla="val -89064"/>
              <a:gd name="adj6" fmla="val 11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_datatype.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152280" y="4619520"/>
            <a:ext cx="4114800" cy="533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ev.originator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31D82-F2C6-4ABD-B37E-61F504206214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2200" y="985680"/>
            <a:ext cx="56800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tep#1</a:t>
            </a:r>
            <a:r>
              <a:rPr b="1" lang="en-US" sz="20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2000" spc="-1" strike="noStrike">
                <a:solidFill>
                  <a:srgbClr val="000000"/>
                </a:solidFill>
                <a:latin typeface="Bitstream Charter"/>
              </a:rPr>
              <a:t>Defining a User-Defined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07880" y="1895400"/>
            <a:ext cx="7696440" cy="2971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clare a C++ class/structure for the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(see the following sl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reate a default constructor for the user-defined data typ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Also provide an overloaded constructor that is useful to assign the user-defined values in the desired m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Implement cci_value_converter&lt;user-defined-type&gt; with pack and unpack functions (not shown – see example co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load the insertion (&lt;&lt;) operator to provide convenience in repor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36FD3-1CBD-4295-80A9-15352F183C6F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80880" y="685800"/>
            <a:ext cx="7543800" cy="3808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frastructure to be created :  Creating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5800" y="1143000"/>
            <a:ext cx="3886200" cy="4952880"/>
          </a:xfrm>
          <a:custGeom>
            <a:avLst/>
            <a:gdLst>
              <a:gd name="textAreaLeft" fmla="*/ 3600 w 3886200"/>
              <a:gd name="textAreaRight" fmla="*/ 3882600 w 3886200"/>
              <a:gd name="textAreaTop" fmla="*/ 3600 h 4952880"/>
              <a:gd name="textAreaBottom" fmla="*/ 4949280 h 4952880"/>
            </a:gdLst>
            <a:ahLst/>
            <a:rect l="textAreaLeft" t="textAreaTop" r="textAreaRight" b="textAreaBottom"/>
            <a:pathLst>
              <a:path w="21600" h="27528">
                <a:moveTo>
                  <a:pt x="75" y="0"/>
                </a:moveTo>
                <a:arcTo wR="75" hR="75" stAng="16200000" swAng="-5400000"/>
                <a:lnTo>
                  <a:pt x="0" y="27453"/>
                </a:lnTo>
                <a:arcTo wR="75" hR="75" stAng="10800000" swAng="-5400000"/>
                <a:lnTo>
                  <a:pt x="21525" y="27528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uct route_table_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Default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Sourc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//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Overloaded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int saddr, int daddr, int 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s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d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s_address;     // Slav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d_address;    // 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index;           // 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;// End of STRUC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8F3F5-86F4-4003-8ECB-B7FF5BC9C444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47680" y="876240"/>
            <a:ext cx="50292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Overloading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ser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 operator of C+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07880" y="1600200"/>
            <a:ext cx="6907320" cy="44197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td::ostream&amp; operator &lt;&lt;(std::ostream&amp; os, const route_table_ut&amp; u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ci::cci_value udv(ud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eturn os &lt;&lt; udv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16639-524C-4CF8-AC11-96CD5A0DDAB0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63720" y="49100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5611680" y="4373640"/>
            <a:ext cx="3303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2960" y="448164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287440" y="3941640"/>
            <a:ext cx="45720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Before the instantiation of the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82680" y="1905120"/>
            <a:ext cx="5024520" cy="10350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yOriginato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824120" y="1219320"/>
            <a:ext cx="5489640" cy="563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yOriginator(“sc_main_originato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366920" y="3048120"/>
            <a:ext cx="6786360" cy="914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preset value using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et_preset_value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I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init_str("{\"s_address\":256,\"d_address\":512,\"index\":0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globalBroker.set_preset_cci_value(“param_owner.User_data_type_param”, cci::cci_value::from_json(init_str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335720" y="491184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362320" y="4952880"/>
            <a:ext cx="4662360" cy="103032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obj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AADEE-8A64-4877-8EB2-D01BCB7E8FD8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"/>
          <p:cNvSpPr/>
          <p:nvPr/>
        </p:nvSpPr>
        <p:spPr>
          <a:xfrm>
            <a:off x="323208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498168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38096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04920" y="1550880"/>
            <a:ext cx="510516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ame and assign defaul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("User_data_type_param",route_table_ut(0x200,0x300,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343400" y="2313000"/>
            <a:ext cx="1511280" cy="22860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04920" y="345600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_default_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faul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512,"d_address":768,"index":1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04920" y="5132520"/>
            <a:ext cx="5029200" cy="68580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Set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onst std::string init_desc = “This is user-defined data type”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udt_param.set_description(init_desc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701352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5504040" y="4827600"/>
            <a:ext cx="3563640" cy="7621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Declare handle for the parame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udt_param_handl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9600" y="1246320"/>
            <a:ext cx="3881520" cy="2286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i::cci_param&lt;route_table_ut&gt; udt_para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04920" y="2693880"/>
            <a:ext cx="449568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 nam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Nam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304920" y="429408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256,"d_address":512,"index":0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8C7AD-FA0A-4EED-8199-3AA342EE1A60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323208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525780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38096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01352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380880" y="1527120"/>
            <a:ext cx="4496040" cy="85428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Documentation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380880" y="2533680"/>
            <a:ext cx="617220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set_cci_value("{\"s_address\":768,\"d_address\":1024,\"index\":2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4800600" y="337176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4850"/>
                </a:lnTo>
                <a:lnTo>
                  <a:pt x="12077" y="-85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1162080"/>
            <a:ext cx="181620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3962520" y="4362480"/>
            <a:ext cx="181584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380880" y="4803840"/>
            <a:ext cx="4800600" cy="8539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the presen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5562720" y="4514760"/>
            <a:ext cx="22096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5" y="3600"/>
                </a:moveTo>
                <a:lnTo>
                  <a:pt x="31934" y="3600"/>
                </a:lnTo>
                <a:lnTo>
                  <a:pt x="31934" y="25650"/>
                </a:lnTo>
                <a:lnTo>
                  <a:pt x="-33992" y="2579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00:40:22Z</dcterms:modified>
  <cp:revision>66</cp:revision>
  <dc:subject/>
  <dc:title>ex16_User_Defined_Data_Ty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40:21Z</vt:lpwstr>
  </property>
  <property fmtid="{D5CDD505-2E9C-101B-9397-08002B2CF9AE}" pid="5" name="TitusGUID">
    <vt:lpwstr>fc8b835a-1d3c-4a78-8f66-3d525973a8b0</vt:lpwstr>
  </property>
</Properties>
</file>