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670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AutoShape 1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AutoShape 2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3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AutoShape 4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AutoShape 5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AutoShape 6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7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AutoShape 8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AutoShape 9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AutoShape 10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AutoShape 11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AutoShape 12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AutoShape 13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AutoShape 14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AutoShape 15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AutoShape 16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AutoShape 17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AutoShape 18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AutoShape 19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AutoShape 20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AutoShape 21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22"/>
          <p:cNvSpPr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23"/>
          <p:cNvSpPr/>
          <p:nvPr/>
        </p:nvSpPr>
        <p:spPr>
          <a:xfrm>
            <a:off x="3778200" y="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860040" y="744480"/>
            <a:ext cx="4915080" cy="3686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302440" cy="44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26"/>
          <p:cNvSpPr/>
          <p:nvPr/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Num" idx="2"/>
          </p:nvPr>
        </p:nvSpPr>
        <p:spPr>
          <a:xfrm>
            <a:off x="3778200" y="9429480"/>
            <a:ext cx="285768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60F939-5F80-4A3B-9068-86E827C6AE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27"/>
          <p:cNvSpPr/>
          <p:nvPr/>
        </p:nvSpPr>
        <p:spPr>
          <a:xfrm>
            <a:off x="3778200" y="9429840"/>
            <a:ext cx="2857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4FC388-5E0B-4C96-B7FE-D439F6F0EDC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Text Box 1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38F1B2-1778-494A-934B-661E745B587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27"/>
          <p:cNvSpPr/>
          <p:nvPr/>
        </p:nvSpPr>
        <p:spPr>
          <a:xfrm>
            <a:off x="3778200" y="9429840"/>
            <a:ext cx="2857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51C5D7-1EE7-4701-9607-D4161CA0DFA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30388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Text Box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3782A4-DC26-4688-9FA3-F1F5A50DFE2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27"/>
          <p:cNvSpPr/>
          <p:nvPr/>
        </p:nvSpPr>
        <p:spPr>
          <a:xfrm>
            <a:off x="3778200" y="9429840"/>
            <a:ext cx="2857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F9CF13-B632-4CD3-8868-94AD66C2F51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30388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Text Box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5CA434-CEE1-46BF-ACFC-871F54B2B96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27"/>
          <p:cNvSpPr/>
          <p:nvPr/>
        </p:nvSpPr>
        <p:spPr>
          <a:xfrm>
            <a:off x="3778200" y="9429840"/>
            <a:ext cx="2857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205EE0-DD1B-4273-8FCD-8F444F4DB48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30388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Text Box 4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71E555-9595-4D62-BBAB-553CE172CA9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27"/>
          <p:cNvSpPr/>
          <p:nvPr/>
        </p:nvSpPr>
        <p:spPr>
          <a:xfrm>
            <a:off x="3778200" y="9429840"/>
            <a:ext cx="2857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B765B5-75DB-4368-97A1-1925A377A48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30388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Text Box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387DEC-5A14-48B8-B16D-F6B753B6DF7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27"/>
          <p:cNvSpPr/>
          <p:nvPr/>
        </p:nvSpPr>
        <p:spPr>
          <a:xfrm>
            <a:off x="3778200" y="9429840"/>
            <a:ext cx="2857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FA2084-6EAA-4688-B099-3400F25CBD3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30388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Text Box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2ED955-8814-4FF3-B241-CBF7D1F3C1C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27"/>
          <p:cNvSpPr/>
          <p:nvPr/>
        </p:nvSpPr>
        <p:spPr>
          <a:xfrm>
            <a:off x="3778200" y="9429840"/>
            <a:ext cx="2857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AA600B-81F7-441F-8AE2-7EC872C0D1C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30388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Text Box 4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54570E-56FD-4E6A-89E2-4DD0156D7F2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27"/>
          <p:cNvSpPr/>
          <p:nvPr/>
        </p:nvSpPr>
        <p:spPr>
          <a:xfrm>
            <a:off x="3778200" y="9429840"/>
            <a:ext cx="2857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18DCBB-3221-4EA4-9CB1-44B2530DA20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30388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Text Box 4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7E7579-0F94-4CBE-B4CB-2FCF3E72D23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27"/>
          <p:cNvSpPr/>
          <p:nvPr/>
        </p:nvSpPr>
        <p:spPr>
          <a:xfrm>
            <a:off x="3778200" y="9429840"/>
            <a:ext cx="2857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22FDF5-27CE-4575-B0F3-7E6FA2D5BA6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30388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Text Box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9BD569-CD89-4BAC-B49F-988C694A423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27"/>
          <p:cNvSpPr/>
          <p:nvPr/>
        </p:nvSpPr>
        <p:spPr>
          <a:xfrm>
            <a:off x="3778200" y="9429840"/>
            <a:ext cx="2857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9A305D-7647-44EC-AC71-CB5CAAABF44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30388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Text Box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DBFAC5-BB18-4A54-948B-3D20739547B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27"/>
          <p:cNvSpPr/>
          <p:nvPr/>
        </p:nvSpPr>
        <p:spPr>
          <a:xfrm>
            <a:off x="3778200" y="9429840"/>
            <a:ext cx="2857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130455-0805-4862-8F52-C1467FD4A8A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30388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Text Box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6C5DB9-4CC9-49B1-888F-87CF69700A6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27"/>
          <p:cNvSpPr/>
          <p:nvPr/>
        </p:nvSpPr>
        <p:spPr>
          <a:xfrm>
            <a:off x="3778200" y="9429840"/>
            <a:ext cx="2857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3AF0F0-9FDC-4F89-BFB0-34FFD3E7082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30388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Text Box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DE3A83-F8F7-4BBF-A361-650EFCCADE6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9EE18D-D03A-4363-BA06-47191C3B07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865368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52280"/>
            <a:ext cx="865368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231F0B-F233-45E2-8121-690A9CEACF8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15360" y="114264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5228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15360" y="375228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9C2AC6-FC72-4CB0-833F-218822B691F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27864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06960" y="1142640"/>
            <a:ext cx="27864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33040" y="1142640"/>
            <a:ext cx="27864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52280"/>
            <a:ext cx="27864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06960" y="3752280"/>
            <a:ext cx="27864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33040" y="3752280"/>
            <a:ext cx="27864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72CF38-39AA-47F1-BC49-035492D84B5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2640"/>
            <a:ext cx="8653680" cy="49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865368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22280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15360" y="1142640"/>
            <a:ext cx="422280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53680" cy="51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15360" y="1142640"/>
            <a:ext cx="422280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5228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2640"/>
            <a:ext cx="8653680" cy="49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CF1560-2616-4A2F-8A7E-A4877BC4AB1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22280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15360" y="114264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15360" y="375228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15360" y="114264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52280"/>
            <a:ext cx="865368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865368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52280"/>
            <a:ext cx="865368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15360" y="114264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5228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15360" y="375228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27864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06960" y="1142640"/>
            <a:ext cx="27864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33040" y="1142640"/>
            <a:ext cx="27864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52280"/>
            <a:ext cx="27864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06960" y="3752280"/>
            <a:ext cx="27864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33040" y="3752280"/>
            <a:ext cx="27864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865368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0D12A9-C77B-42E1-BD2E-3A8BF73A2D8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22280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15360" y="1142640"/>
            <a:ext cx="422280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86D924-8180-42FA-B8E8-EF6F19F6F8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EEE564-5200-4531-AF7D-9816BFAA5EB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53680" cy="51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EC5FC9-AD97-4B63-B70E-D9E81A8B7DF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15360" y="1142640"/>
            <a:ext cx="422280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5228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72D5FB-8E86-42EA-BCE2-A60287A99C9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22280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15360" y="114264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15360" y="375228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12665E-F285-4878-A0DE-DAA2BEA3B6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15360" y="114264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52280"/>
            <a:ext cx="865368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4C8D06-8CA5-4CE5-A87C-22934B2130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2640"/>
            <a:ext cx="865368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600" y="6305400"/>
            <a:ext cx="118584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CF8191A-C8BE-4A35-AEC5-733DC639413D}" type="slidenum"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2640"/>
            <a:ext cx="865368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2"/>
          <p:cNvSpPr/>
          <p:nvPr/>
        </p:nvSpPr>
        <p:spPr>
          <a:xfrm>
            <a:off x="3429000" y="5105520"/>
            <a:ext cx="4070520" cy="1428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itstream Charter"/>
              </a:rPr>
              <a:t>P V S Phaneendra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itstream Charter"/>
              </a:rPr>
              <a:t>CircuitSutra Technologies Pvt. Ltd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itstream Charter"/>
              </a:rPr>
              <a:t>Dec 2011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Rectangle 2"/>
          <p:cNvSpPr/>
          <p:nvPr/>
        </p:nvSpPr>
        <p:spPr>
          <a:xfrm>
            <a:off x="507960" y="3359160"/>
            <a:ext cx="8331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f2f2f2"/>
                </a:solidFill>
                <a:latin typeface="Arial"/>
              </a:rPr>
              <a:t>Parameter Information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f2f2f2"/>
                </a:solidFill>
                <a:latin typeface="Arial"/>
              </a:rPr>
              <a:t>SystemC CCI WG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Line 1"/>
          <p:cNvSpPr/>
          <p:nvPr/>
        </p:nvSpPr>
        <p:spPr>
          <a:xfrm>
            <a:off x="3305160" y="1093680"/>
            <a:ext cx="1440" cy="480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AutoShape 2"/>
          <p:cNvSpPr/>
          <p:nvPr/>
        </p:nvSpPr>
        <p:spPr>
          <a:xfrm>
            <a:off x="4981680" y="557280"/>
            <a:ext cx="29718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Configur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AutoShape 3"/>
          <p:cNvSpPr/>
          <p:nvPr/>
        </p:nvSpPr>
        <p:spPr>
          <a:xfrm>
            <a:off x="1380960" y="593640"/>
            <a:ext cx="29718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Own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Line 4"/>
          <p:cNvSpPr/>
          <p:nvPr/>
        </p:nvSpPr>
        <p:spPr>
          <a:xfrm>
            <a:off x="7013520" y="1058760"/>
            <a:ext cx="1800" cy="480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AutoShape 5"/>
          <p:cNvSpPr/>
          <p:nvPr/>
        </p:nvSpPr>
        <p:spPr>
          <a:xfrm>
            <a:off x="3505320" y="1114560"/>
            <a:ext cx="1060200" cy="257040"/>
          </a:xfrm>
          <a:prstGeom prst="roundRect">
            <a:avLst>
              <a:gd name="adj" fmla="val 37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61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80"/>
                </a:solidFill>
                <a:latin typeface="Bitstream Charter"/>
              </a:rPr>
              <a:t>@ 16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AutoShape 6"/>
          <p:cNvSpPr/>
          <p:nvPr/>
        </p:nvSpPr>
        <p:spPr>
          <a:xfrm>
            <a:off x="4092480" y="1631160"/>
            <a:ext cx="4953240" cy="272880"/>
          </a:xfrm>
          <a:prstGeom prst="roundRect">
            <a:avLst>
              <a:gd name="adj" fmla="val 218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Query locking status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I) :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int_param_handle.locked()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returns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FALS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Text Box 7"/>
          <p:cNvSpPr/>
          <p:nvPr/>
        </p:nvSpPr>
        <p:spPr>
          <a:xfrm>
            <a:off x="0" y="71280"/>
            <a:ext cx="914400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9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000" spc="-1" strike="noStrike">
                <a:solidFill>
                  <a:srgbClr val="000099"/>
                </a:solidFill>
                <a:latin typeface="Bitstream Charter"/>
              </a:rPr>
              <a:t>Set and Query Parameter Information (contd.. 7)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AutoShape 5"/>
          <p:cNvSpPr/>
          <p:nvPr/>
        </p:nvSpPr>
        <p:spPr>
          <a:xfrm>
            <a:off x="3497400" y="2443320"/>
            <a:ext cx="1143000" cy="212400"/>
          </a:xfrm>
          <a:prstGeom prst="roundRect">
            <a:avLst>
              <a:gd name="adj" fmla="val 37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44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80"/>
                </a:solidFill>
                <a:latin typeface="Bitstream Charter"/>
              </a:rPr>
              <a:t>@ 22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AutoShape 6"/>
          <p:cNvSpPr/>
          <p:nvPr/>
        </p:nvSpPr>
        <p:spPr>
          <a:xfrm>
            <a:off x="5057640" y="4714560"/>
            <a:ext cx="3988080" cy="638640"/>
          </a:xfrm>
          <a:prstGeom prst="roundRect">
            <a:avLst>
              <a:gd name="adj" fmla="val 370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Set new value to string parameter using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CCI_VALUE</a:t>
            </a:r>
            <a:br>
              <a:rPr sz="1200"/>
            </a:b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cci::cci_value str_value(“Hello_New_String”):</a:t>
            </a:r>
            <a:br>
              <a:rPr sz="1200"/>
            </a:b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str_param_handle.set_cci_value</a:t>
            </a:r>
            <a:r>
              <a:rPr b="1" i="1" lang="en-US" sz="1000" spc="-1" strike="noStrike">
                <a:solidFill>
                  <a:srgbClr val="000000"/>
                </a:solidFill>
                <a:latin typeface="Bitstream Charter"/>
              </a:rPr>
              <a:t>(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str_value</a:t>
            </a:r>
            <a:r>
              <a:rPr b="1" i="1" lang="en-US" sz="1000" spc="-1" strike="noStrike">
                <a:solidFill>
                  <a:srgbClr val="000000"/>
                </a:solidFill>
                <a:latin typeface="Bitstream Charter"/>
              </a:rPr>
              <a:t>);</a:t>
            </a: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AutoShape 8"/>
          <p:cNvSpPr/>
          <p:nvPr/>
        </p:nvSpPr>
        <p:spPr>
          <a:xfrm>
            <a:off x="3795840" y="3603240"/>
            <a:ext cx="5249880" cy="638640"/>
          </a:xfrm>
          <a:prstGeom prst="roundRect">
            <a:avLst>
              <a:gd name="adj" fmla="val 255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  <a:ea typeface="Times New Roman"/>
              </a:rPr>
              <a:t>Query Parameter Basic Type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  <a:ea typeface="Times New Roman"/>
              </a:rPr>
              <a:t>(S) :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  <a:ea typeface="Times New Roman"/>
              </a:rPr>
              <a:t>str_param_handle.get_basic_type(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  <a:ea typeface="Times New Roman"/>
              </a:rPr>
              <a:t>Return Value =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  <a:ea typeface="Times New Roman"/>
              </a:rPr>
              <a:t>“4” (std::string type)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AutoShape 13"/>
          <p:cNvSpPr/>
          <p:nvPr/>
        </p:nvSpPr>
        <p:spPr>
          <a:xfrm>
            <a:off x="4218120" y="2733840"/>
            <a:ext cx="4827600" cy="637920"/>
          </a:xfrm>
          <a:prstGeom prst="roundRect">
            <a:avLst>
              <a:gd name="adj" fmla="val 97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Query Documentation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S) : 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str_param_handle.get_description()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Returns doc =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“This is a mutable type string parameter”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Line 1"/>
          <p:cNvSpPr/>
          <p:nvPr/>
        </p:nvSpPr>
        <p:spPr>
          <a:xfrm>
            <a:off x="3305160" y="1093680"/>
            <a:ext cx="1440" cy="480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AutoShape 2"/>
          <p:cNvSpPr/>
          <p:nvPr/>
        </p:nvSpPr>
        <p:spPr>
          <a:xfrm>
            <a:off x="4981680" y="557280"/>
            <a:ext cx="29718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Configur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AutoShape 3"/>
          <p:cNvSpPr/>
          <p:nvPr/>
        </p:nvSpPr>
        <p:spPr>
          <a:xfrm>
            <a:off x="1380960" y="593640"/>
            <a:ext cx="29718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Own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Line 4"/>
          <p:cNvSpPr/>
          <p:nvPr/>
        </p:nvSpPr>
        <p:spPr>
          <a:xfrm>
            <a:off x="7013520" y="1058760"/>
            <a:ext cx="1800" cy="480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Text Box 7"/>
          <p:cNvSpPr/>
          <p:nvPr/>
        </p:nvSpPr>
        <p:spPr>
          <a:xfrm>
            <a:off x="0" y="71280"/>
            <a:ext cx="914400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9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000" spc="-1" strike="noStrike">
                <a:solidFill>
                  <a:srgbClr val="000099"/>
                </a:solidFill>
                <a:latin typeface="Bitstream Charter"/>
              </a:rPr>
              <a:t>Set and Query Parameter Information (contd.. 8)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AutoShape 17"/>
          <p:cNvSpPr/>
          <p:nvPr/>
        </p:nvSpPr>
        <p:spPr>
          <a:xfrm>
            <a:off x="3809880" y="1425600"/>
            <a:ext cx="5181840" cy="1263600"/>
          </a:xfrm>
          <a:prstGeom prst="roundRect">
            <a:avLst>
              <a:gd name="adj" fmla="val 255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Bitstream Charter"/>
              </a:rPr>
              <a:t>Query the latest write originator </a:t>
            </a:r>
            <a:r>
              <a:rPr b="1" lang="en-US" sz="1100" spc="-1" strike="noStrike">
                <a:solidFill>
                  <a:srgbClr val="000000"/>
                </a:solidFill>
                <a:latin typeface="Bitstream Charter"/>
              </a:rPr>
              <a:t>(S) : </a:t>
            </a: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Bitstream Charter"/>
              </a:rPr>
              <a:t>const cci::cci_originator* </a:t>
            </a:r>
            <a:br>
              <a:rPr sz="1100"/>
            </a:br>
            <a:r>
              <a:rPr b="1" i="1" lang="en-US" sz="1100" spc="-1" strike="noStrike">
                <a:solidFill>
                  <a:srgbClr val="000000"/>
                </a:solidFill>
                <a:latin typeface="Bitstream Charter"/>
              </a:rPr>
              <a:t>                  str_originator = str_param_handle.get_latest_write_originator();</a:t>
            </a:r>
            <a:br>
              <a:rPr sz="1100"/>
            </a:b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Bitstream Charter"/>
              </a:rPr>
              <a:t>Name of the latest write originator :   </a:t>
            </a:r>
            <a:r>
              <a:rPr b="1" i="1" lang="en-US" sz="1100" spc="-1" strike="noStrike">
                <a:solidFill>
                  <a:srgbClr val="000000"/>
                </a:solidFill>
                <a:latin typeface="Bitstream Charter"/>
              </a:rPr>
              <a:t>str_originator.get_name();</a:t>
            </a: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Bitstream Charter"/>
              </a:rPr>
              <a:t>Returns Originator :  </a:t>
            </a:r>
            <a:r>
              <a:rPr b="1" i="1" lang="en-US" sz="1100" spc="-1" strike="noStrike">
                <a:solidFill>
                  <a:srgbClr val="000000"/>
                </a:solidFill>
                <a:latin typeface="Bitstream Charter"/>
              </a:rPr>
              <a:t>param_cfgr</a:t>
            </a: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AutoShape 18"/>
          <p:cNvSpPr/>
          <p:nvPr/>
        </p:nvSpPr>
        <p:spPr>
          <a:xfrm>
            <a:off x="3429000" y="1104840"/>
            <a:ext cx="1143000" cy="228600"/>
          </a:xfrm>
          <a:prstGeom prst="roundRect">
            <a:avLst>
              <a:gd name="adj" fmla="val 37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50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80"/>
                </a:solidFill>
                <a:latin typeface="Bitstream Charter"/>
              </a:rPr>
              <a:t>@ 24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AutoShape 10"/>
          <p:cNvSpPr/>
          <p:nvPr/>
        </p:nvSpPr>
        <p:spPr>
          <a:xfrm>
            <a:off x="4546440" y="3752640"/>
            <a:ext cx="4445280" cy="638640"/>
          </a:xfrm>
          <a:prstGeom prst="roundRect">
            <a:avLst>
              <a:gd name="adj" fmla="val 370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Create an instance of cci_value to receive value into cci_value object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cci::cci_value rx_value: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AutoShape 11"/>
          <p:cNvSpPr/>
          <p:nvPr/>
        </p:nvSpPr>
        <p:spPr>
          <a:xfrm>
            <a:off x="4014720" y="4696200"/>
            <a:ext cx="4978440" cy="821160"/>
          </a:xfrm>
          <a:prstGeom prst="roundRect">
            <a:avLst>
              <a:gd name="adj" fmla="val 171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Query CCI Value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S) : 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rx_value = str_param_ptr.get_cci_value(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Query String Value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S) : 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rx_value.get_string(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Returned String :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“Hello_New_String”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AutoShape 14"/>
          <p:cNvSpPr/>
          <p:nvPr/>
        </p:nvSpPr>
        <p:spPr>
          <a:xfrm>
            <a:off x="4352760" y="2999520"/>
            <a:ext cx="4638960" cy="455400"/>
          </a:xfrm>
          <a:prstGeom prst="roundRect">
            <a:avLst>
              <a:gd name="adj" fmla="val 97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Query Value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S)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: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 s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tr_param_handle.get_cci_value().to_json(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Returns Value =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“Hello_New_String”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Line 2"/>
          <p:cNvSpPr/>
          <p:nvPr/>
        </p:nvSpPr>
        <p:spPr>
          <a:xfrm>
            <a:off x="3305160" y="1093680"/>
            <a:ext cx="1440" cy="480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AutoShape 3"/>
          <p:cNvSpPr/>
          <p:nvPr/>
        </p:nvSpPr>
        <p:spPr>
          <a:xfrm>
            <a:off x="4981680" y="557280"/>
            <a:ext cx="29718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Configur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AutoShape 4"/>
          <p:cNvSpPr/>
          <p:nvPr/>
        </p:nvSpPr>
        <p:spPr>
          <a:xfrm>
            <a:off x="1380960" y="593640"/>
            <a:ext cx="29718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Own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Line 5"/>
          <p:cNvSpPr/>
          <p:nvPr/>
        </p:nvSpPr>
        <p:spPr>
          <a:xfrm>
            <a:off x="7013520" y="1058760"/>
            <a:ext cx="1800" cy="480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AutoShape 6"/>
          <p:cNvSpPr/>
          <p:nvPr/>
        </p:nvSpPr>
        <p:spPr>
          <a:xfrm>
            <a:off x="4368960" y="1082520"/>
            <a:ext cx="1193760" cy="365400"/>
          </a:xfrm>
          <a:prstGeom prst="roundRect">
            <a:avLst>
              <a:gd name="adj" fmla="val 37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80"/>
                </a:solidFill>
                <a:latin typeface="Bitstream Charter"/>
              </a:rPr>
              <a:t>@ 26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Text Box 7"/>
          <p:cNvSpPr/>
          <p:nvPr/>
        </p:nvSpPr>
        <p:spPr>
          <a:xfrm>
            <a:off x="0" y="71280"/>
            <a:ext cx="914400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9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000" spc="-1" strike="noStrike">
                <a:solidFill>
                  <a:srgbClr val="000099"/>
                </a:solidFill>
                <a:latin typeface="Bitstream Charter"/>
              </a:rPr>
              <a:t>Set and Query Parameter Information (contd.. 10)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AutoShape 13"/>
          <p:cNvSpPr/>
          <p:nvPr/>
        </p:nvSpPr>
        <p:spPr>
          <a:xfrm>
            <a:off x="304920" y="1532160"/>
            <a:ext cx="4521240" cy="821880"/>
          </a:xfrm>
          <a:prstGeom prst="roundRect">
            <a:avLst>
              <a:gd name="adj" fmla="val 370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Set new value to string parameter using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CCI_VALUE</a:t>
            </a:r>
            <a:br>
              <a:rPr sz="1200"/>
            </a:br>
            <a:br>
              <a:rPr sz="1200"/>
            </a:b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cci::cci_value str_value(“String_Value_Set_by_OWNER”):</a:t>
            </a:r>
            <a:br>
              <a:rPr sz="1200"/>
            </a:b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string_param.set_cci_value</a:t>
            </a:r>
            <a:r>
              <a:rPr b="1" i="1" lang="en-US" sz="1000" spc="-1" strike="noStrike">
                <a:solidFill>
                  <a:srgbClr val="000000"/>
                </a:solidFill>
                <a:latin typeface="Bitstream Charter"/>
              </a:rPr>
              <a:t>(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str_value</a:t>
            </a:r>
            <a:r>
              <a:rPr b="1" i="1" lang="en-US" sz="1000" spc="-1" strike="noStrike">
                <a:solidFill>
                  <a:srgbClr val="000000"/>
                </a:solidFill>
                <a:latin typeface="Bitstream Charter"/>
              </a:rPr>
              <a:t>);</a:t>
            </a: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AutoShape 14"/>
          <p:cNvSpPr/>
          <p:nvPr/>
        </p:nvSpPr>
        <p:spPr>
          <a:xfrm>
            <a:off x="4368960" y="2438280"/>
            <a:ext cx="1193760" cy="365400"/>
          </a:xfrm>
          <a:prstGeom prst="roundRect">
            <a:avLst>
              <a:gd name="adj" fmla="val 37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80"/>
                </a:solidFill>
                <a:latin typeface="Bitstream Charter"/>
              </a:rPr>
              <a:t>@ 28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AutoShape 15"/>
          <p:cNvSpPr/>
          <p:nvPr/>
        </p:nvSpPr>
        <p:spPr>
          <a:xfrm>
            <a:off x="380880" y="2865600"/>
            <a:ext cx="4445280" cy="821880"/>
          </a:xfrm>
          <a:prstGeom prst="roundRect">
            <a:avLst>
              <a:gd name="adj" fmla="val 370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Create an object of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cci_value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to receive value into cci_value object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	</a:t>
            </a:r>
            <a:br>
              <a:rPr sz="1200"/>
            </a:b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cci::cci_value   rec_str_value: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AutoShape 16"/>
          <p:cNvSpPr/>
          <p:nvPr/>
        </p:nvSpPr>
        <p:spPr>
          <a:xfrm>
            <a:off x="380880" y="3986280"/>
            <a:ext cx="3810240" cy="637920"/>
          </a:xfrm>
          <a:prstGeom prst="roundRect">
            <a:avLst>
              <a:gd name="adj" fmla="val 171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Query CCI Value (S) :  </a:t>
            </a:r>
            <a:br>
              <a:rPr sz="1200"/>
            </a:br>
            <a:br>
              <a:rPr sz="1200"/>
            </a:b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rec_str_value  =  string_param.get_cci_value(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AutoShape 17"/>
          <p:cNvSpPr/>
          <p:nvPr/>
        </p:nvSpPr>
        <p:spPr>
          <a:xfrm>
            <a:off x="380880" y="4759200"/>
            <a:ext cx="3997440" cy="1003680"/>
          </a:xfrm>
          <a:prstGeom prst="roundRect">
            <a:avLst>
              <a:gd name="adj" fmla="val 171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Query (S)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:  new string value using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CCI_VALUE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:  </a:t>
            </a:r>
            <a:br>
              <a:rPr sz="1200"/>
            </a:br>
            <a:br>
              <a:rPr sz="1200"/>
            </a:b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std::string recv_str  = rec_str_value.get_string();</a:t>
            </a:r>
            <a:br>
              <a:rPr sz="1200"/>
            </a:b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Returns string : 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“String_Value_Set_by_OWNER”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2"/>
          <p:cNvSpPr/>
          <p:nvPr/>
        </p:nvSpPr>
        <p:spPr>
          <a:xfrm>
            <a:off x="380880" y="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(ex07_Parameter_Information.log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Content Placeholder 4"/>
          <p:cNvSpPr/>
          <p:nvPr/>
        </p:nvSpPr>
        <p:spPr>
          <a:xfrm>
            <a:off x="380880" y="1139760"/>
            <a:ext cx="8686800" cy="47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SystemC Simulation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sc_main: [MAIN] : Setting 'param_owner.mutable_string_param' value to 'Initialized within sc_main()'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sc_main: [MAIN] : Demonstrating 'comparison' between the values of a data type for different mutability type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sc_main: [MAIN] : 'mutable' &amp; 'immutable' type String parameters - VALUES MATCH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sc_main: [MAIN] : parameter_owner module declares two cci type parameters.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sc_main: One is of 'Integer type' and the other is of 'String type'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sc_main: 'Integer type' has 'pre_read', 'pre/post_write' callback registered within the OBSERVER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Prior to 0 s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demonstrating 'is_preset_value' API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[OWNER] : Parameter : param_owner.mutable_int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Value : 0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Is preset value ?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fals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Prior to 0 s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demonstrating 'get_default_value()'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[OWNER -&gt; Retrieve] : Parameter name  : param_owner.mutable_int_param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[OWNER -&gt; Retrieve] : Using 'get_default_value()' : 0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Content Placeholder 4"/>
          <p:cNvSpPr/>
          <p:nvPr/>
        </p:nvSpPr>
        <p:spPr>
          <a:xfrm>
            <a:off x="380880" y="914400"/>
            <a:ext cx="868680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[OWNER -&gt; Set] : Param description - 'This is a mutable type integer parameter'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 C_TOR] : Broker Type : DEFAULT_BROKER - is not a private broker.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Prior to 0 s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demonstrating 'is_preset_value' API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 C_TOR] : param_owner.mutable_string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Preset Value : Initialized within sc_main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 C_TOR] : Is preset value ?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tru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observer: @0 s, [OBSERVER C_TOR] : Broker Type : DEFAULT_BROKER- is not a private broker.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@ 0 s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demonstrating 'is_default_value()'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] : param_owner.mutable_int_param default value hasn't been modified.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] : Is Default Value ? 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Returned status : tru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1 ns, @ 1 n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1 ns, [OWNER -&gt; Set] : Overriding default value of param_owner.mutable_int_param to 1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observer: @1 ns, [OBSERVER pre_write_cb] :  Parameter Name : param_owner.mutable_int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Originator info : param_owner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observer: @1 ns, [OBSERVER post_write_cb] :  Parameter Name : param_owner.mutable_int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Originator info : param_owner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2 ns, @ 2 ns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demonstrating 'is_default_value()'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Rectangle 2"/>
          <p:cNvSpPr/>
          <p:nvPr/>
        </p:nvSpPr>
        <p:spPr>
          <a:xfrm>
            <a:off x="380880" y="304920"/>
            <a:ext cx="8686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ntd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2"/>
          <p:cNvSpPr/>
          <p:nvPr/>
        </p:nvSpPr>
        <p:spPr>
          <a:xfrm>
            <a:off x="380880" y="304920"/>
            <a:ext cx="8686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ntd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Content Placeholder 4"/>
          <p:cNvSpPr/>
          <p:nvPr/>
        </p:nvSpPr>
        <p:spPr>
          <a:xfrm>
            <a:off x="380880" y="914400"/>
            <a:ext cx="868680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2 ns, [CFGR] : param_owner.mutable_int_param value has been modified.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2 ns, [CFGR] : Is Default Value ? 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Returned status : fals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2 ns, [CFGR] : param_owner.mutable_string_param New Value : Initialized within sc_main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4 ns, [CFGR -&gt; Retrieve] Parameter's name : param_owner.mutable_int_param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observer: @4 ns, [OBSERVER pre_read_cb] :  Parameter Name : param_owner.mutable_int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Originator info : param_cfgr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4 ns, [CFGR -&gt; Retrieve] Parameter's value : 1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4 ns, [CFGR -&gt; Retrieve] Parameter's desc : This is a mutable type integer parameter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4 ns, [CFGR -&gt; Retrieve] Parameter's metadata : {"min_value":["0","Minimum value"],"max_value":["100","Maximum value"],"unit":["F","Unit of the parameter (Farad)"]}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6 ns, @ 6 n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6 ns, [CFGR -&gt; Set] :  param_owner.mutable_int_param value to 10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observer: @6 ns, [OBSERVER pre_write_cb] :  Parameter Name : param_owner.mutable_int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Originator info : param_cfgr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observer: @6 ns, [OBSERVER post_write_cb] :  Parameter Name : param_owner.mutable_int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Originator info : param_cfgr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10 ns, @ 10 n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2"/>
          <p:cNvSpPr/>
          <p:nvPr/>
        </p:nvSpPr>
        <p:spPr>
          <a:xfrm>
            <a:off x="380880" y="304920"/>
            <a:ext cx="8686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ntd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Content Placeholder 4"/>
          <p:cNvSpPr/>
          <p:nvPr/>
        </p:nvSpPr>
        <p:spPr>
          <a:xfrm>
            <a:off x="380880" y="914400"/>
            <a:ext cx="868680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10 ns, [CFGR -&gt; Retrieve] : Parameter name : param_owner.mutable_int_param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observer: @10 ns, [OBSERVER pre_read_cb] :  Parameter Name : param_owner.mutable_int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Originator info : param_cfgr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10 ns, [CFGR -&gt; Retrieve] : Parameter value: 10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10 ns, [CFGR -&gt; Retrieve] : Parameter desc : This is a mutable type integer parameter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12 ns, @ 12 n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12 ns, [CFGR] : Checking locked status of parameter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12 ns, [CFGR] : param_owner.mutable_int_param is in unlocked state!!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12 ns, [CFGR] : Parameter locked using password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14 ns, @ 14 n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14 ns, [CFGR] : Checking locked status of parameter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14 ns, [CFGR] : param_owner.mutable_int_param is in locked state!!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14 ns, [CFGR] : Parameter unlocked using password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16 ns, @ 16 n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16 ns, [CFGR] : Checking locked status of parameter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16 ns, [CFGR] : param_owner.mutable_int_param is in unlocked state!!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22 ns, @ 22 ns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demonstrating 'set_value()' for string-type param using cci_valu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2"/>
          <p:cNvSpPr/>
          <p:nvPr/>
        </p:nvSpPr>
        <p:spPr>
          <a:xfrm>
            <a:off x="380880" y="304920"/>
            <a:ext cx="8686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ntd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Content Placeholder 4"/>
          <p:cNvSpPr/>
          <p:nvPr/>
        </p:nvSpPr>
        <p:spPr>
          <a:xfrm>
            <a:off x="380880" y="914400"/>
            <a:ext cx="868680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22 ns, [CFGR] : Parameter Description : This is a mutable type string parameter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22 ns, [CFGR -&gt; Set] : Get Basic Type using 'get_basic_type()' : 4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24 ns, @ 24 ns demonstrating 'get_latest_write_originator' API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24 ns, [CFGR] : Originator for the latest write on string type cci-parameter : param_cfgr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24 ns, @ 24 ns demonstrating 'get_value' for string-type param using cci_valu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24 ns, [CFGR] : 'Retrieve1' using 'json_serialize' and 'Retrieve2' using 'get_value()'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24 ns, [CFGR -&gt; Retrieve1] : param_owner.mutable_string_param value is "Hello_New_String"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24 ns, [CFGR -&gt; Retrieve2] : Hello_New_String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26 ns, @ 26 ns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demonstrating setting values by OWNER using cci_valu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26 ns, [OWNER -&gt; Set] : New String Value : 'String_Value_Set_by_OWNER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28 ns, @ 28 ns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demonstrating retrieving values by OWNER using cci_valu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28 ns, [OWNER -&gt; Retrieve] : Receive str_value using 'cci_value' : String_Value_Set_by_OWNER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380880" y="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Set and Query Various Attributes of a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CI Parameter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228600" y="1285920"/>
            <a:ext cx="86868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98520" indent="-2937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45000"/>
              <a:buFont typeface="Wingdings" charset="2"/>
              <a:buChar char=""/>
              <a:tabLst>
                <a:tab algn="l" pos="398520"/>
                <a:tab algn="l" pos="855720"/>
                <a:tab algn="l" pos="1312920"/>
                <a:tab algn="l" pos="1770120"/>
                <a:tab algn="l" pos="2227320"/>
                <a:tab algn="l" pos="2684520"/>
                <a:tab algn="l" pos="3141720"/>
                <a:tab algn="l" pos="3598920"/>
                <a:tab algn="l" pos="4056120"/>
                <a:tab algn="l" pos="4513320"/>
                <a:tab algn="l" pos="4970520"/>
                <a:tab algn="l" pos="5427720"/>
                <a:tab algn="l" pos="5884920"/>
                <a:tab algn="l" pos="6342120"/>
                <a:tab algn="l" pos="6799320"/>
                <a:tab algn="l" pos="7256520"/>
                <a:tab algn="l" pos="7713720"/>
                <a:tab algn="l" pos="8170920"/>
                <a:tab algn="l" pos="8628120"/>
                <a:tab algn="l" pos="9085320"/>
                <a:tab algn="l" pos="954252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following functionality have been demonstrated in this example 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41440" indent="-20808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•"/>
              <a:tabLst>
                <a:tab algn="l" pos="398520"/>
                <a:tab algn="l" pos="855720"/>
                <a:tab algn="l" pos="1312920"/>
                <a:tab algn="l" pos="1770120"/>
                <a:tab algn="l" pos="2227320"/>
                <a:tab algn="l" pos="2684520"/>
                <a:tab algn="l" pos="3141720"/>
                <a:tab algn="l" pos="3598920"/>
                <a:tab algn="l" pos="4056120"/>
                <a:tab algn="l" pos="4513320"/>
                <a:tab algn="l" pos="4970520"/>
                <a:tab algn="l" pos="5427720"/>
                <a:tab algn="l" pos="5884920"/>
                <a:tab algn="l" pos="6342120"/>
                <a:tab algn="l" pos="6799320"/>
                <a:tab algn="l" pos="7256520"/>
                <a:tab algn="l" pos="7713720"/>
                <a:tab algn="l" pos="8170920"/>
                <a:tab algn="l" pos="8628120"/>
                <a:tab algn="l" pos="9085320"/>
                <a:tab algn="l" pos="954252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tting and querying 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826920" indent="-14112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398520"/>
                <a:tab algn="l" pos="855720"/>
                <a:tab algn="l" pos="1312920"/>
                <a:tab algn="l" pos="1770120"/>
                <a:tab algn="l" pos="2227320"/>
                <a:tab algn="l" pos="2684520"/>
                <a:tab algn="l" pos="3141720"/>
                <a:tab algn="l" pos="3598920"/>
                <a:tab algn="l" pos="4056120"/>
                <a:tab algn="l" pos="4513320"/>
                <a:tab algn="l" pos="4970520"/>
                <a:tab algn="l" pos="5427720"/>
                <a:tab algn="l" pos="5884920"/>
                <a:tab algn="l" pos="6342120"/>
                <a:tab algn="l" pos="6799320"/>
                <a:tab algn="l" pos="7256520"/>
                <a:tab algn="l" pos="7713720"/>
                <a:tab algn="l" pos="8170920"/>
                <a:tab algn="l" pos="8628120"/>
                <a:tab algn="l" pos="9085320"/>
                <a:tab algn="l" pos="954252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meter's n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26920" indent="-14112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398520"/>
                <a:tab algn="l" pos="855720"/>
                <a:tab algn="l" pos="1312920"/>
                <a:tab algn="l" pos="1770120"/>
                <a:tab algn="l" pos="2227320"/>
                <a:tab algn="l" pos="2684520"/>
                <a:tab algn="l" pos="3141720"/>
                <a:tab algn="l" pos="3598920"/>
                <a:tab algn="l" pos="4056120"/>
                <a:tab algn="l" pos="4513320"/>
                <a:tab algn="l" pos="4970520"/>
                <a:tab algn="l" pos="5427720"/>
                <a:tab algn="l" pos="5884920"/>
                <a:tab algn="l" pos="6342120"/>
                <a:tab algn="l" pos="6799320"/>
                <a:tab algn="l" pos="7256520"/>
                <a:tab algn="l" pos="7713720"/>
                <a:tab algn="l" pos="8170920"/>
                <a:tab algn="l" pos="8628120"/>
                <a:tab algn="l" pos="9085320"/>
                <a:tab algn="l" pos="954252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meter's valu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26920" indent="-14112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398520"/>
                <a:tab algn="l" pos="855720"/>
                <a:tab algn="l" pos="1312920"/>
                <a:tab algn="l" pos="1770120"/>
                <a:tab algn="l" pos="2227320"/>
                <a:tab algn="l" pos="2684520"/>
                <a:tab algn="l" pos="3141720"/>
                <a:tab algn="l" pos="3598920"/>
                <a:tab algn="l" pos="4056120"/>
                <a:tab algn="l" pos="4513320"/>
                <a:tab algn="l" pos="4970520"/>
                <a:tab algn="l" pos="5427720"/>
                <a:tab algn="l" pos="5884920"/>
                <a:tab algn="l" pos="6342120"/>
                <a:tab algn="l" pos="6799320"/>
                <a:tab algn="l" pos="7256520"/>
                <a:tab algn="l" pos="7713720"/>
                <a:tab algn="l" pos="8170920"/>
                <a:tab algn="l" pos="8628120"/>
                <a:tab algn="l" pos="9085320"/>
                <a:tab algn="l" pos="954252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meter's description/documentation/meta-dat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26920" indent="-14112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398520"/>
                <a:tab algn="l" pos="855720"/>
                <a:tab algn="l" pos="1312920"/>
                <a:tab algn="l" pos="1770120"/>
                <a:tab algn="l" pos="2227320"/>
                <a:tab algn="l" pos="2684520"/>
                <a:tab algn="l" pos="3141720"/>
                <a:tab algn="l" pos="3598920"/>
                <a:tab algn="l" pos="4056120"/>
                <a:tab algn="l" pos="4513320"/>
                <a:tab algn="l" pos="4970520"/>
                <a:tab algn="l" pos="5427720"/>
                <a:tab algn="l" pos="5884920"/>
                <a:tab algn="l" pos="6342120"/>
                <a:tab algn="l" pos="6799320"/>
                <a:tab algn="l" pos="7256520"/>
                <a:tab algn="l" pos="7713720"/>
                <a:tab algn="l" pos="8170920"/>
                <a:tab algn="l" pos="8628120"/>
                <a:tab algn="l" pos="9085320"/>
                <a:tab algn="l" pos="954252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meter's value validi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26920" indent="-14112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398520"/>
                <a:tab algn="l" pos="855720"/>
                <a:tab algn="l" pos="1312920"/>
                <a:tab algn="l" pos="1770120"/>
                <a:tab algn="l" pos="2227320"/>
                <a:tab algn="l" pos="2684520"/>
                <a:tab algn="l" pos="3141720"/>
                <a:tab algn="l" pos="3598920"/>
                <a:tab algn="l" pos="4056120"/>
                <a:tab algn="l" pos="4513320"/>
                <a:tab algn="l" pos="4970520"/>
                <a:tab algn="l" pos="5427720"/>
                <a:tab algn="l" pos="5884920"/>
                <a:tab algn="l" pos="6342120"/>
                <a:tab algn="l" pos="6799320"/>
                <a:tab algn="l" pos="7256520"/>
                <a:tab algn="l" pos="7713720"/>
                <a:tab algn="l" pos="8170920"/>
                <a:tab algn="l" pos="8628120"/>
                <a:tab algn="l" pos="9085320"/>
                <a:tab algn="l" pos="954252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meter's locked statu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26920" indent="-14112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398520"/>
                <a:tab algn="l" pos="855720"/>
                <a:tab algn="l" pos="1312920"/>
                <a:tab algn="l" pos="1770120"/>
                <a:tab algn="l" pos="2227320"/>
                <a:tab algn="l" pos="2684520"/>
                <a:tab algn="l" pos="3141720"/>
                <a:tab algn="l" pos="3598920"/>
                <a:tab algn="l" pos="4056120"/>
                <a:tab algn="l" pos="4513320"/>
                <a:tab algn="l" pos="4970520"/>
                <a:tab algn="l" pos="5427720"/>
                <a:tab algn="l" pos="5884920"/>
                <a:tab algn="l" pos="6342120"/>
                <a:tab algn="l" pos="6799320"/>
                <a:tab algn="l" pos="7256520"/>
                <a:tab algn="l" pos="7713720"/>
                <a:tab algn="l" pos="8170920"/>
                <a:tab algn="l" pos="8628120"/>
                <a:tab algn="l" pos="9085320"/>
                <a:tab algn="l" pos="954252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meter's value orig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1"/>
          <p:cNvSpPr/>
          <p:nvPr/>
        </p:nvSpPr>
        <p:spPr>
          <a:xfrm>
            <a:off x="407880" y="152280"/>
            <a:ext cx="81806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Set and Query Parameter Inform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3598920" y="709560"/>
            <a:ext cx="194148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sc_main(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AutoShape 16"/>
          <p:cNvSpPr/>
          <p:nvPr/>
        </p:nvSpPr>
        <p:spPr>
          <a:xfrm>
            <a:off x="6248520" y="2232000"/>
            <a:ext cx="2133360" cy="304920"/>
          </a:xfrm>
          <a:prstGeom prst="borderCallout2">
            <a:avLst>
              <a:gd name="adj1" fmla="val 18750"/>
              <a:gd name="adj2" fmla="val -8333"/>
              <a:gd name="adj3" fmla="val 16666"/>
              <a:gd name="adj4" fmla="val -32365"/>
              <a:gd name="adj5" fmla="val -358814"/>
              <a:gd name="adj6" fmla="val -6395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bserver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AutoShape 17"/>
          <p:cNvSpPr/>
          <p:nvPr/>
        </p:nvSpPr>
        <p:spPr>
          <a:xfrm>
            <a:off x="838080" y="1600200"/>
            <a:ext cx="1752840" cy="304920"/>
          </a:xfrm>
          <a:prstGeom prst="borderCallout2">
            <a:avLst>
              <a:gd name="adj1" fmla="val 18750"/>
              <a:gd name="adj2" fmla="val -8333"/>
              <a:gd name="adj3" fmla="val 37500"/>
              <a:gd name="adj4" fmla="val 141125"/>
              <a:gd name="adj5" fmla="val -161458"/>
              <a:gd name="adj6" fmla="val 17898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rameter_Owner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AutoShape 18"/>
          <p:cNvSpPr/>
          <p:nvPr/>
        </p:nvSpPr>
        <p:spPr>
          <a:xfrm>
            <a:off x="6477120" y="1552680"/>
            <a:ext cx="2438280" cy="304560"/>
          </a:xfrm>
          <a:prstGeom prst="borderCallout2">
            <a:avLst>
              <a:gd name="adj1" fmla="val 18750"/>
              <a:gd name="adj2" fmla="val -8333"/>
              <a:gd name="adj3" fmla="val 37500"/>
              <a:gd name="adj4" fmla="val -25912"/>
              <a:gd name="adj5" fmla="val -143231"/>
              <a:gd name="adj6" fmla="val -5475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rameter_Configurator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AutoShape 19"/>
          <p:cNvSpPr/>
          <p:nvPr/>
        </p:nvSpPr>
        <p:spPr>
          <a:xfrm>
            <a:off x="2666880" y="2295360"/>
            <a:ext cx="2057400" cy="60984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9722"/>
              <a:gd name="adj5" fmla="val -57935"/>
              <a:gd name="adj6" fmla="val -1306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stantiates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string typ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cci-parameter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AutoShape 20"/>
          <p:cNvSpPr/>
          <p:nvPr/>
        </p:nvSpPr>
        <p:spPr>
          <a:xfrm>
            <a:off x="152280" y="2219400"/>
            <a:ext cx="2057400" cy="685800"/>
          </a:xfrm>
          <a:prstGeom prst="borderCallout2">
            <a:avLst>
              <a:gd name="adj1" fmla="val 18750"/>
              <a:gd name="adj2" fmla="val -8333"/>
              <a:gd name="adj3" fmla="val 16666"/>
              <a:gd name="adj4" fmla="val 104782"/>
              <a:gd name="adj5" fmla="val -40500"/>
              <a:gd name="adj6" fmla="val 10513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stantiates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integer typ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cci-parameter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630360" y="4143240"/>
            <a:ext cx="7543800" cy="53352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1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itstream Charter"/>
              </a:rPr>
              <a:t>Note#1 :</a:t>
            </a: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  </a:t>
            </a:r>
            <a:r>
              <a:rPr b="0" i="1" lang="en-US" sz="1600" spc="-1" strike="noStrike">
                <a:solidFill>
                  <a:srgbClr val="000000"/>
                </a:solidFill>
                <a:latin typeface="Bitstream Charter"/>
              </a:rPr>
              <a:t>For a detailed understanding of registration and implementation of  callbacks,  please go see examples 8, 11 and 12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AutoShape 26"/>
          <p:cNvSpPr/>
          <p:nvPr/>
        </p:nvSpPr>
        <p:spPr>
          <a:xfrm>
            <a:off x="5638680" y="3048120"/>
            <a:ext cx="2895840" cy="952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2168" y="2592"/>
                </a:moveTo>
                <a:lnTo>
                  <a:pt x="23459" y="2592"/>
                </a:lnTo>
                <a:lnTo>
                  <a:pt x="23459" y="-4320"/>
                </a:lnTo>
                <a:lnTo>
                  <a:pt x="20449" y="-15007"/>
                </a:lnTo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Registers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different types of callbacks 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(pre_read, pre_write &amp; post_write)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on the parameters of interest to monitor their activities</a:t>
            </a:r>
            <a:endParaRPr b="1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AutoShape 27"/>
          <p:cNvSpPr/>
          <p:nvPr/>
        </p:nvSpPr>
        <p:spPr>
          <a:xfrm>
            <a:off x="873000" y="5448240"/>
            <a:ext cx="3775320" cy="60984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71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itstream Charter"/>
              </a:rPr>
              <a:t>Note#2 :</a:t>
            </a: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  </a:t>
            </a:r>
            <a:r>
              <a:rPr b="0" i="1" lang="en-US" sz="1600" spc="-1" strike="noStrike">
                <a:solidFill>
                  <a:srgbClr val="000000"/>
                </a:solidFill>
                <a:latin typeface="Bitstream Charter"/>
              </a:rPr>
              <a:t>The originator information will </a:t>
            </a:r>
            <a:br>
              <a:rPr sz="1600"/>
            </a:br>
            <a:r>
              <a:rPr b="0" i="1" lang="en-US" sz="1600" spc="-1" strike="noStrike">
                <a:solidFill>
                  <a:srgbClr val="000000"/>
                </a:solidFill>
                <a:latin typeface="Bitstream Charter"/>
              </a:rPr>
              <a:t>                 be displayed by the following </a:t>
            </a:r>
            <a:br>
              <a:rPr sz="1600"/>
            </a:br>
            <a:r>
              <a:rPr b="0" i="1" lang="en-US" sz="1600" spc="-1" strike="noStrike">
                <a:solidFill>
                  <a:srgbClr val="000000"/>
                </a:solidFill>
                <a:latin typeface="Bitstream Charter"/>
              </a:rPr>
              <a:t>                </a:t>
            </a: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Shap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AutoShape 29"/>
          <p:cNvSpPr/>
          <p:nvPr/>
        </p:nvSpPr>
        <p:spPr>
          <a:xfrm>
            <a:off x="5715000" y="5410080"/>
            <a:ext cx="2286000" cy="6858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720" y="1200"/>
                </a:moveTo>
                <a:lnTo>
                  <a:pt x="-4230" y="1200"/>
                </a:lnTo>
                <a:lnTo>
                  <a:pt x="-4230" y="5800"/>
                </a:lnTo>
                <a:lnTo>
                  <a:pt x="-4110" y="15750"/>
                </a:lnTo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Reporter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1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Callback Type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cb_type</a:t>
            </a:r>
            <a:endParaRPr b="1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Originator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originator_name</a:t>
            </a:r>
            <a:endParaRPr b="1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AutoShape 30"/>
          <p:cNvSpPr/>
          <p:nvPr/>
        </p:nvSpPr>
        <p:spPr>
          <a:xfrm>
            <a:off x="685800" y="4724280"/>
            <a:ext cx="4495680" cy="60984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85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Within the Callbacks implementation :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</a:t>
            </a:r>
            <a:br>
              <a:rPr sz="1400"/>
            </a:b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Name of the parameter : 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callback_event.get_name();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Name of the originator :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callback_event.originator.name();</a:t>
            </a:r>
            <a:endParaRPr b="1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AutoShape 16"/>
          <p:cNvSpPr/>
          <p:nvPr/>
        </p:nvSpPr>
        <p:spPr>
          <a:xfrm>
            <a:off x="1981080" y="3438360"/>
            <a:ext cx="2133720" cy="304920"/>
          </a:xfrm>
          <a:prstGeom prst="borderCallout2">
            <a:avLst>
              <a:gd name="adj1" fmla="val 18750"/>
              <a:gd name="adj2" fmla="val -8333"/>
              <a:gd name="adj3" fmla="val 58472"/>
              <a:gd name="adj4" fmla="val 133791"/>
              <a:gd name="adj5" fmla="val -752259"/>
              <a:gd name="adj6" fmla="val 13206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arameter Container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Line 8"/>
          <p:cNvSpPr/>
          <p:nvPr/>
        </p:nvSpPr>
        <p:spPr>
          <a:xfrm>
            <a:off x="4600440" y="987480"/>
            <a:ext cx="9720" cy="5257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AutoShape 9"/>
          <p:cNvSpPr/>
          <p:nvPr/>
        </p:nvSpPr>
        <p:spPr>
          <a:xfrm>
            <a:off x="2260440" y="2829240"/>
            <a:ext cx="4699080" cy="821160"/>
          </a:xfrm>
          <a:prstGeom prst="roundRect">
            <a:avLst>
              <a:gd name="adj" fmla="val 194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Get handle to the 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DEFAULT BROKER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using the above 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Originator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cci::cci_broker_handle globalBroker =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  cci::cci_broker_manager::get_broker(me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AutoShape 10"/>
          <p:cNvSpPr/>
          <p:nvPr/>
        </p:nvSpPr>
        <p:spPr>
          <a:xfrm>
            <a:off x="3598920" y="533520"/>
            <a:ext cx="194148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sc_main(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AutoShape 11"/>
          <p:cNvSpPr/>
          <p:nvPr/>
        </p:nvSpPr>
        <p:spPr>
          <a:xfrm>
            <a:off x="1897200" y="1959480"/>
            <a:ext cx="5425920" cy="638640"/>
          </a:xfrm>
          <a:prstGeom prst="roundRect">
            <a:avLst>
              <a:gd name="adj" fmla="val 194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Instantiate a cci_originator instance to get access to the 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DEFAULT BROKER</a:t>
            </a:r>
            <a:br>
              <a:rPr sz="1200"/>
            </a:b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cci::cci_originator me(“sc_main”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AutoShape 12"/>
          <p:cNvSpPr/>
          <p:nvPr/>
        </p:nvSpPr>
        <p:spPr>
          <a:xfrm>
            <a:off x="646200" y="3910680"/>
            <a:ext cx="7927920" cy="1003680"/>
          </a:xfrm>
          <a:prstGeom prst="roundRect">
            <a:avLst>
              <a:gd name="adj" fmla="val 194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Set preset value using broker handle that overrides the default value passed as argument to the constructor of the sc_module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S)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globerBroker.set_preset_cci_value(“param_owner.mutable_string_param”,</a:t>
            </a:r>
            <a:br>
              <a:rPr sz="1200"/>
            </a:b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    cci_value(“Initialized within sc_main”)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3"/>
          <p:cNvSpPr/>
          <p:nvPr/>
        </p:nvSpPr>
        <p:spPr>
          <a:xfrm>
            <a:off x="0" y="34920"/>
            <a:ext cx="914400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9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000" spc="-1" strike="noStrike">
                <a:solidFill>
                  <a:srgbClr val="000099"/>
                </a:solidFill>
                <a:latin typeface="Bitstream Charter"/>
              </a:rPr>
              <a:t>Set and Query Parameter Information (contd.. 1)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AutoShape 10"/>
          <p:cNvSpPr/>
          <p:nvPr/>
        </p:nvSpPr>
        <p:spPr>
          <a:xfrm>
            <a:off x="228600" y="4959360"/>
            <a:ext cx="876312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400" spc="-1" strike="noStrike" u="sng">
                <a:solidFill>
                  <a:srgbClr val="000000"/>
                </a:solidFill>
                <a:uFillTx/>
                <a:latin typeface="Bitstream Charter"/>
              </a:rPr>
              <a:t>Demonstrating value comparison for different mutability types with the same data type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AutoShape 12"/>
          <p:cNvSpPr/>
          <p:nvPr/>
        </p:nvSpPr>
        <p:spPr>
          <a:xfrm>
            <a:off x="76320" y="5488920"/>
            <a:ext cx="9067680" cy="455400"/>
          </a:xfrm>
          <a:prstGeom prst="roundRect">
            <a:avLst>
              <a:gd name="adj" fmla="val 194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All the three mutability type cci-parameters of std::string type inside parameter container:</a:t>
            </a:r>
            <a:br>
              <a:rPr sz="1200"/>
            </a:b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cci::cci_param&lt; std::string, cci::CCI_MUTABLE_PARAM &gt;  mutab_str_param (“string_mutab_param”,“String_Value_A”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1"/>
          <p:cNvSpPr/>
          <p:nvPr/>
        </p:nvSpPr>
        <p:spPr>
          <a:xfrm>
            <a:off x="1887480" y="1083960"/>
            <a:ext cx="5426280" cy="638640"/>
          </a:xfrm>
          <a:prstGeom prst="roundRect">
            <a:avLst>
              <a:gd name="adj" fmla="val 194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Register a global broker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cci::cci_register_broker(new cci_utils::broker(“DEFAULT_BROKER”)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Line 3"/>
          <p:cNvSpPr/>
          <p:nvPr/>
        </p:nvSpPr>
        <p:spPr>
          <a:xfrm>
            <a:off x="1863720" y="4803840"/>
            <a:ext cx="936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AutoShape 4"/>
          <p:cNvSpPr/>
          <p:nvPr/>
        </p:nvSpPr>
        <p:spPr>
          <a:xfrm>
            <a:off x="5989680" y="4267080"/>
            <a:ext cx="279072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77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Configur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AutoShape 5"/>
          <p:cNvSpPr/>
          <p:nvPr/>
        </p:nvSpPr>
        <p:spPr>
          <a:xfrm>
            <a:off x="372960" y="4375080"/>
            <a:ext cx="25020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Own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AutoShape 7"/>
          <p:cNvSpPr/>
          <p:nvPr/>
        </p:nvSpPr>
        <p:spPr>
          <a:xfrm>
            <a:off x="7540560" y="4987800"/>
            <a:ext cx="1479600" cy="586080"/>
          </a:xfrm>
          <a:prstGeom prst="roundRect">
            <a:avLst>
              <a:gd name="adj" fmla="val 269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I) -&gt; Integer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S) -&gt; String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8"/>
          <p:cNvSpPr/>
          <p:nvPr/>
        </p:nvSpPr>
        <p:spPr>
          <a:xfrm>
            <a:off x="4600440" y="987480"/>
            <a:ext cx="9720" cy="3886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AutoShape 10"/>
          <p:cNvSpPr/>
          <p:nvPr/>
        </p:nvSpPr>
        <p:spPr>
          <a:xfrm>
            <a:off x="3598920" y="557280"/>
            <a:ext cx="194148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sc_main(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13"/>
          <p:cNvSpPr/>
          <p:nvPr/>
        </p:nvSpPr>
        <p:spPr>
          <a:xfrm>
            <a:off x="7335720" y="4805280"/>
            <a:ext cx="972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AutoShape 14"/>
          <p:cNvSpPr/>
          <p:nvPr/>
        </p:nvSpPr>
        <p:spPr>
          <a:xfrm>
            <a:off x="2506680" y="4795920"/>
            <a:ext cx="4205160" cy="1186200"/>
          </a:xfrm>
          <a:prstGeom prst="roundRect">
            <a:avLst>
              <a:gd name="adj" fmla="val 194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Create instances of the modules now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parameter_owner         param_owner(“param_owner”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parameter_configurer  param_cfgr(“param_cfgr)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observer                        observer_class(“observer”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Text Box 13"/>
          <p:cNvSpPr/>
          <p:nvPr/>
        </p:nvSpPr>
        <p:spPr>
          <a:xfrm>
            <a:off x="0" y="34920"/>
            <a:ext cx="914400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9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000" spc="-1" strike="noStrike">
                <a:solidFill>
                  <a:srgbClr val="000099"/>
                </a:solidFill>
                <a:latin typeface="Bitstream Charter"/>
              </a:rPr>
              <a:t>Set and Query Parameter Information (contd.. 2)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AutoShape 12"/>
          <p:cNvSpPr/>
          <p:nvPr/>
        </p:nvSpPr>
        <p:spPr>
          <a:xfrm>
            <a:off x="838080" y="1372320"/>
            <a:ext cx="7942320" cy="455400"/>
          </a:xfrm>
          <a:prstGeom prst="roundRect">
            <a:avLst>
              <a:gd name="adj" fmla="val 194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cci::cci_param&lt; std::string, cci::CCI_IMMUTABLE_PARAM&gt; immutab_str_param (“string_immutab_param”, “String_Value_A”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AutoShape 12"/>
          <p:cNvSpPr/>
          <p:nvPr/>
        </p:nvSpPr>
        <p:spPr>
          <a:xfrm>
            <a:off x="1389240" y="2550960"/>
            <a:ext cx="6441840" cy="638640"/>
          </a:xfrm>
          <a:prstGeom prst="roundRect">
            <a:avLst>
              <a:gd name="adj" fmla="val 194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Query (S)  :  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Is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“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mutab_str_param.get_value() == immutable_str_param. get_value()”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 ?</a:t>
            </a:r>
            <a:br>
              <a:rPr sz="1200"/>
            </a:b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Returns :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 TRU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AutoShape 6"/>
          <p:cNvSpPr/>
          <p:nvPr/>
        </p:nvSpPr>
        <p:spPr>
          <a:xfrm>
            <a:off x="2362320" y="3775320"/>
            <a:ext cx="4572000" cy="639720"/>
          </a:xfrm>
          <a:prstGeom prst="roundRect">
            <a:avLst>
              <a:gd name="adj" fmla="val 278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80"/>
                </a:solidFill>
                <a:latin typeface="Bitstream Charter"/>
              </a:rPr>
              <a:t>Prior to the instantiation of the module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Line 1"/>
          <p:cNvSpPr/>
          <p:nvPr/>
        </p:nvSpPr>
        <p:spPr>
          <a:xfrm>
            <a:off x="3232080" y="1066680"/>
            <a:ext cx="17640" cy="502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AutoShape 2"/>
          <p:cNvSpPr/>
          <p:nvPr/>
        </p:nvSpPr>
        <p:spPr>
          <a:xfrm>
            <a:off x="4981680" y="485640"/>
            <a:ext cx="29718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Configur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AutoShape 3"/>
          <p:cNvSpPr/>
          <p:nvPr/>
        </p:nvSpPr>
        <p:spPr>
          <a:xfrm>
            <a:off x="1380960" y="485640"/>
            <a:ext cx="29718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Own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AutoShape 4"/>
          <p:cNvSpPr/>
          <p:nvPr/>
        </p:nvSpPr>
        <p:spPr>
          <a:xfrm>
            <a:off x="1147680" y="1485000"/>
            <a:ext cx="2851200" cy="821160"/>
          </a:xfrm>
          <a:prstGeom prst="roundRect">
            <a:avLst>
              <a:gd name="adj" fmla="val 204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Set name and assign default value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I)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: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int_param(“mutable_int_param, 0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AutoShape 5"/>
          <p:cNvSpPr/>
          <p:nvPr/>
        </p:nvSpPr>
        <p:spPr>
          <a:xfrm>
            <a:off x="1628640" y="2363400"/>
            <a:ext cx="3205440" cy="821160"/>
          </a:xfrm>
          <a:prstGeom prst="roundRect">
            <a:avLst>
              <a:gd name="adj" fmla="val 194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Set name and assign default value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S)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: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string_param(“mutable_string_param”, “Default_value”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AutoShape 6"/>
          <p:cNvSpPr/>
          <p:nvPr/>
        </p:nvSpPr>
        <p:spPr>
          <a:xfrm>
            <a:off x="4006800" y="1335240"/>
            <a:ext cx="1816200" cy="569880"/>
          </a:xfrm>
          <a:prstGeom prst="roundRect">
            <a:avLst>
              <a:gd name="adj" fmla="val 278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80"/>
                </a:solidFill>
                <a:latin typeface="Bitstream Charter"/>
              </a:rPr>
              <a:t>Prior to 0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AutoShape 7"/>
          <p:cNvSpPr/>
          <p:nvPr/>
        </p:nvSpPr>
        <p:spPr>
          <a:xfrm>
            <a:off x="1995480" y="3834360"/>
            <a:ext cx="2473200" cy="821160"/>
          </a:xfrm>
          <a:prstGeom prst="roundRect">
            <a:avLst>
              <a:gd name="adj" fmla="val 185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Query default value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I)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: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int_param.get_default_value(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Returns Value = 0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8"/>
          <p:cNvSpPr/>
          <p:nvPr/>
        </p:nvSpPr>
        <p:spPr>
          <a:xfrm>
            <a:off x="1006560" y="4839120"/>
            <a:ext cx="4500360" cy="1003680"/>
          </a:xfrm>
          <a:prstGeom prst="roundRect">
            <a:avLst>
              <a:gd name="adj" fmla="val 199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Set documentation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I)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: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const std::string init_doc = “This is a mutable type integer parameter”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int_param.set_documentation(init_doc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Line 9"/>
          <p:cNvSpPr/>
          <p:nvPr/>
        </p:nvSpPr>
        <p:spPr>
          <a:xfrm>
            <a:off x="7013520" y="1058760"/>
            <a:ext cx="30240" cy="427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AutoShape 10"/>
          <p:cNvSpPr/>
          <p:nvPr/>
        </p:nvSpPr>
        <p:spPr>
          <a:xfrm>
            <a:off x="5261040" y="1983240"/>
            <a:ext cx="3564000" cy="1003680"/>
          </a:xfrm>
          <a:prstGeom prst="roundRect">
            <a:avLst>
              <a:gd name="adj" fmla="val 153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Declare base pointers and check the existence of the integer and string type parameters: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cci::cci_param_handle int_param_handle; 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I)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cci::cci_param_handle str_param_handle;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S)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AutoShape 11"/>
          <p:cNvSpPr/>
          <p:nvPr/>
        </p:nvSpPr>
        <p:spPr>
          <a:xfrm>
            <a:off x="7419960" y="5210280"/>
            <a:ext cx="1479600" cy="585720"/>
          </a:xfrm>
          <a:prstGeom prst="roundRect">
            <a:avLst>
              <a:gd name="adj" fmla="val 269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I) -&gt; Integer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S) -&gt; String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AutoShape 12"/>
          <p:cNvSpPr/>
          <p:nvPr/>
        </p:nvSpPr>
        <p:spPr>
          <a:xfrm>
            <a:off x="1693800" y="865080"/>
            <a:ext cx="3075120" cy="638640"/>
          </a:xfrm>
          <a:prstGeom prst="roundRect">
            <a:avLst>
              <a:gd name="adj" fmla="val 204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cci::cci_param&lt;int&gt; int_param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cci::cci_param&lt;std::string&gt; string_param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13"/>
          <p:cNvSpPr/>
          <p:nvPr/>
        </p:nvSpPr>
        <p:spPr>
          <a:xfrm>
            <a:off x="0" y="34920"/>
            <a:ext cx="914400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9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000" spc="-1" strike="noStrike">
                <a:solidFill>
                  <a:srgbClr val="000099"/>
                </a:solidFill>
                <a:latin typeface="Bitstream Charter"/>
              </a:rPr>
              <a:t>Set and Query Parameter Information (contd.. 3)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AutoShape 17"/>
          <p:cNvSpPr/>
          <p:nvPr/>
        </p:nvSpPr>
        <p:spPr>
          <a:xfrm>
            <a:off x="703440" y="3380040"/>
            <a:ext cx="4038480" cy="273600"/>
          </a:xfrm>
          <a:prstGeom prst="roundRect">
            <a:avLst>
              <a:gd name="adj" fmla="val 449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Query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I) : 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int_param.is_preset_value()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returns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FALS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AutoShape 18"/>
          <p:cNvSpPr/>
          <p:nvPr/>
        </p:nvSpPr>
        <p:spPr>
          <a:xfrm>
            <a:off x="5291280" y="3215160"/>
            <a:ext cx="3504960" cy="456120"/>
          </a:xfrm>
          <a:prstGeom prst="roundRect">
            <a:avLst>
              <a:gd name="adj" fmla="val 449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Query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S) : 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str_param_ptr-&gt;is_preset_value()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returns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TRU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Line 1"/>
          <p:cNvSpPr/>
          <p:nvPr/>
        </p:nvSpPr>
        <p:spPr>
          <a:xfrm>
            <a:off x="3089160" y="1058760"/>
            <a:ext cx="1800" cy="480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AutoShape 2"/>
          <p:cNvSpPr/>
          <p:nvPr/>
        </p:nvSpPr>
        <p:spPr>
          <a:xfrm>
            <a:off x="4981680" y="557280"/>
            <a:ext cx="29718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Configur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AutoShape 3"/>
          <p:cNvSpPr/>
          <p:nvPr/>
        </p:nvSpPr>
        <p:spPr>
          <a:xfrm>
            <a:off x="1380960" y="593640"/>
            <a:ext cx="29718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Own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Line 4"/>
          <p:cNvSpPr/>
          <p:nvPr/>
        </p:nvSpPr>
        <p:spPr>
          <a:xfrm>
            <a:off x="7013520" y="1058760"/>
            <a:ext cx="1800" cy="480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AutoShape 5"/>
          <p:cNvSpPr/>
          <p:nvPr/>
        </p:nvSpPr>
        <p:spPr>
          <a:xfrm>
            <a:off x="3886200" y="1006560"/>
            <a:ext cx="1046160" cy="288720"/>
          </a:xfrm>
          <a:prstGeom prst="roundRect">
            <a:avLst>
              <a:gd name="adj" fmla="val 306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72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80"/>
                </a:solidFill>
                <a:latin typeface="Bitstream Charter"/>
              </a:rPr>
              <a:t>@ 0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AutoShape 6"/>
          <p:cNvSpPr/>
          <p:nvPr/>
        </p:nvSpPr>
        <p:spPr>
          <a:xfrm>
            <a:off x="4572000" y="1320480"/>
            <a:ext cx="4406760" cy="456120"/>
          </a:xfrm>
          <a:prstGeom prst="roundRect">
            <a:avLst>
              <a:gd name="adj" fmla="val 449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Query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I) : 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int_param_handle.is_default_value()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returns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TRU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AutoShape 7"/>
          <p:cNvSpPr/>
          <p:nvPr/>
        </p:nvSpPr>
        <p:spPr>
          <a:xfrm>
            <a:off x="95400" y="1711440"/>
            <a:ext cx="914400" cy="422280"/>
          </a:xfrm>
          <a:prstGeom prst="roundRect">
            <a:avLst>
              <a:gd name="adj" fmla="val 37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80"/>
                </a:solidFill>
                <a:latin typeface="Bitstream Charter"/>
              </a:rPr>
              <a:t>@ 1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AutoShape 8"/>
          <p:cNvSpPr/>
          <p:nvPr/>
        </p:nvSpPr>
        <p:spPr>
          <a:xfrm>
            <a:off x="4254480" y="4679640"/>
            <a:ext cx="4724280" cy="1003680"/>
          </a:xfrm>
          <a:prstGeom prst="roundRect">
            <a:avLst>
              <a:gd name="adj" fmla="val 130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Query Name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S) :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str_param_handle.get_name(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Returns name = “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param_owner.mutable_string_param”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Query Value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S) :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str_param_ptr.get_cci_value().get_string(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Returns value =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“Initialized within sc_main”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AutoShape 9"/>
          <p:cNvSpPr/>
          <p:nvPr/>
        </p:nvSpPr>
        <p:spPr>
          <a:xfrm>
            <a:off x="685800" y="2133720"/>
            <a:ext cx="2357280" cy="504720"/>
          </a:xfrm>
          <a:prstGeom prst="roundRect">
            <a:avLst>
              <a:gd name="adj" fmla="val 310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Set value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I) : 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int_param = 1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AutoShape 10"/>
          <p:cNvSpPr/>
          <p:nvPr/>
        </p:nvSpPr>
        <p:spPr>
          <a:xfrm>
            <a:off x="4138560" y="3769920"/>
            <a:ext cx="4829400" cy="638640"/>
          </a:xfrm>
          <a:prstGeom prst="roundRect">
            <a:avLst>
              <a:gd name="adj" fmla="val 222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Query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I) :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int_param_handle.is_default_value()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returns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FALS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Query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S) :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str_param_handle.is_default_value()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returns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TRU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AutoShape 11"/>
          <p:cNvSpPr/>
          <p:nvPr/>
        </p:nvSpPr>
        <p:spPr>
          <a:xfrm>
            <a:off x="7543800" y="3235320"/>
            <a:ext cx="914400" cy="345960"/>
          </a:xfrm>
          <a:prstGeom prst="roundRect">
            <a:avLst>
              <a:gd name="adj" fmla="val 37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3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80"/>
                </a:solidFill>
                <a:latin typeface="Bitstream Charter"/>
              </a:rPr>
              <a:t>@ 2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Text Box 12"/>
          <p:cNvSpPr/>
          <p:nvPr/>
        </p:nvSpPr>
        <p:spPr>
          <a:xfrm>
            <a:off x="0" y="71280"/>
            <a:ext cx="914400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9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000" spc="-1" strike="noStrike">
                <a:solidFill>
                  <a:srgbClr val="000099"/>
                </a:solidFill>
                <a:latin typeface="Bitstream Charter"/>
              </a:rPr>
              <a:t>Set and Query Parameter Information (contd.. 4)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AutoShape 17"/>
          <p:cNvSpPr/>
          <p:nvPr/>
        </p:nvSpPr>
        <p:spPr>
          <a:xfrm>
            <a:off x="1981080" y="2819520"/>
            <a:ext cx="2819520" cy="6858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2184" y="3600"/>
                </a:moveTo>
                <a:lnTo>
                  <a:pt x="25662" y="3600"/>
                </a:lnTo>
                <a:lnTo>
                  <a:pt x="25662" y="-7700"/>
                </a:lnTo>
                <a:lnTo>
                  <a:pt x="6920" y="-12700"/>
                </a:lnTo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Reporter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1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Callback Type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pre_write, post_write</a:t>
            </a:r>
            <a:endParaRPr b="1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Originator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param_owner</a:t>
            </a:r>
            <a:endParaRPr b="1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Line 1"/>
          <p:cNvSpPr/>
          <p:nvPr/>
        </p:nvSpPr>
        <p:spPr>
          <a:xfrm>
            <a:off x="2657520" y="1093680"/>
            <a:ext cx="1440" cy="480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AutoShape 2"/>
          <p:cNvSpPr/>
          <p:nvPr/>
        </p:nvSpPr>
        <p:spPr>
          <a:xfrm>
            <a:off x="4981680" y="557280"/>
            <a:ext cx="29718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Configur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AutoShape 3"/>
          <p:cNvSpPr/>
          <p:nvPr/>
        </p:nvSpPr>
        <p:spPr>
          <a:xfrm>
            <a:off x="1380960" y="593640"/>
            <a:ext cx="29718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Own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Line 4"/>
          <p:cNvSpPr/>
          <p:nvPr/>
        </p:nvSpPr>
        <p:spPr>
          <a:xfrm>
            <a:off x="7013520" y="1058760"/>
            <a:ext cx="1800" cy="480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AutoShape 5"/>
          <p:cNvSpPr/>
          <p:nvPr/>
        </p:nvSpPr>
        <p:spPr>
          <a:xfrm>
            <a:off x="3048120" y="3724200"/>
            <a:ext cx="914400" cy="314280"/>
          </a:xfrm>
          <a:prstGeom prst="roundRect">
            <a:avLst>
              <a:gd name="adj" fmla="val 37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82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80"/>
                </a:solidFill>
                <a:latin typeface="Bitstream Charter"/>
              </a:rPr>
              <a:t>@ 6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AutoShape 6"/>
          <p:cNvSpPr/>
          <p:nvPr/>
        </p:nvSpPr>
        <p:spPr>
          <a:xfrm>
            <a:off x="4908600" y="4085280"/>
            <a:ext cx="4110120" cy="456120"/>
          </a:xfrm>
          <a:prstGeom prst="roundRect">
            <a:avLst>
              <a:gd name="adj" fmla="val 301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Set Value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I) :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int_param_handle.set_cci_value(cci::cci_value(10)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AutoShape 7"/>
          <p:cNvSpPr/>
          <p:nvPr/>
        </p:nvSpPr>
        <p:spPr>
          <a:xfrm>
            <a:off x="4191120" y="1392840"/>
            <a:ext cx="4827600" cy="2281320"/>
          </a:xfrm>
          <a:prstGeom prst="roundRect">
            <a:avLst>
              <a:gd name="adj" fmla="val 79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Query Name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I) : 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int_param_handle.get_name(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Returns Name =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“param_owner.mutable_int_param”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Query Value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I)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: 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int_param_ptr.get_cci_value(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Returns Value =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“1”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Query Description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I) : 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int_param_ptr.get_description()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Returns doc =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“This is mutable type integer parameter”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Query Metadata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I) : 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int_param_ptr.get_metadata()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AutoShape 8"/>
          <p:cNvSpPr/>
          <p:nvPr/>
        </p:nvSpPr>
        <p:spPr>
          <a:xfrm>
            <a:off x="3124080" y="1011240"/>
            <a:ext cx="914400" cy="284040"/>
          </a:xfrm>
          <a:prstGeom prst="roundRect">
            <a:avLst>
              <a:gd name="adj" fmla="val 37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71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80"/>
                </a:solidFill>
                <a:latin typeface="Bitstream Charter"/>
              </a:rPr>
              <a:t>@ 4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Text Box 9"/>
          <p:cNvSpPr/>
          <p:nvPr/>
        </p:nvSpPr>
        <p:spPr>
          <a:xfrm>
            <a:off x="0" y="71280"/>
            <a:ext cx="914400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9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000" spc="-1" strike="noStrike">
                <a:solidFill>
                  <a:srgbClr val="000099"/>
                </a:solidFill>
                <a:latin typeface="Bitstream Charter"/>
              </a:rPr>
              <a:t>Set and Query Parameter Information (contd.. 5)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AutoShape 13"/>
          <p:cNvSpPr/>
          <p:nvPr/>
        </p:nvSpPr>
        <p:spPr>
          <a:xfrm>
            <a:off x="1996920" y="2295360"/>
            <a:ext cx="1981440" cy="6858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831" y="3600"/>
                </a:moveTo>
                <a:lnTo>
                  <a:pt x="-8100" y="3600"/>
                </a:lnTo>
                <a:lnTo>
                  <a:pt x="-8100" y="-3650"/>
                </a:lnTo>
                <a:lnTo>
                  <a:pt x="24165" y="-5250"/>
                </a:lnTo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Reporter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1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Callback Type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pre_read</a:t>
            </a:r>
            <a:endParaRPr b="1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Originator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param_cfgr</a:t>
            </a:r>
            <a:endParaRPr b="1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AutoShape 14"/>
          <p:cNvSpPr/>
          <p:nvPr/>
        </p:nvSpPr>
        <p:spPr>
          <a:xfrm>
            <a:off x="3352680" y="5029200"/>
            <a:ext cx="2819520" cy="6858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584" y="3600"/>
                </a:moveTo>
                <a:lnTo>
                  <a:pt x="-3588" y="3600"/>
                </a:lnTo>
                <a:lnTo>
                  <a:pt x="-3588" y="-20000"/>
                </a:lnTo>
                <a:lnTo>
                  <a:pt x="12072" y="-22189"/>
                </a:lnTo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Reporter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1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Callback Type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pre_write, post_write</a:t>
            </a:r>
            <a:endParaRPr b="1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Originator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param_cfgr</a:t>
            </a:r>
            <a:endParaRPr b="1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Slide Number Placeholder 1"/>
          <p:cNvSpPr/>
          <p:nvPr/>
        </p:nvSpPr>
        <p:spPr>
          <a:xfrm>
            <a:off x="228600" y="6305400"/>
            <a:ext cx="11858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6F2719-4C8F-4BED-95C1-8235A5D5F99F}" type="slidenum">
              <a:rPr b="0" lang="en-US" sz="28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Line 1"/>
          <p:cNvSpPr/>
          <p:nvPr/>
        </p:nvSpPr>
        <p:spPr>
          <a:xfrm>
            <a:off x="2657520" y="1093680"/>
            <a:ext cx="1440" cy="480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AutoShape 2"/>
          <p:cNvSpPr/>
          <p:nvPr/>
        </p:nvSpPr>
        <p:spPr>
          <a:xfrm>
            <a:off x="4981680" y="557280"/>
            <a:ext cx="29718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Configur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AutoShape 3"/>
          <p:cNvSpPr/>
          <p:nvPr/>
        </p:nvSpPr>
        <p:spPr>
          <a:xfrm>
            <a:off x="1380960" y="593640"/>
            <a:ext cx="29718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Own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Line 4"/>
          <p:cNvSpPr/>
          <p:nvPr/>
        </p:nvSpPr>
        <p:spPr>
          <a:xfrm>
            <a:off x="7013520" y="1058760"/>
            <a:ext cx="1800" cy="480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AutoShape 5"/>
          <p:cNvSpPr/>
          <p:nvPr/>
        </p:nvSpPr>
        <p:spPr>
          <a:xfrm>
            <a:off x="2779560" y="3211560"/>
            <a:ext cx="1106640" cy="422280"/>
          </a:xfrm>
          <a:prstGeom prst="roundRect">
            <a:avLst>
              <a:gd name="adj" fmla="val 37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80"/>
                </a:solidFill>
                <a:latin typeface="Bitstream Charter"/>
              </a:rPr>
              <a:t>@ 12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AutoShape 6"/>
          <p:cNvSpPr/>
          <p:nvPr/>
        </p:nvSpPr>
        <p:spPr>
          <a:xfrm>
            <a:off x="3984480" y="3634920"/>
            <a:ext cx="4957920" cy="638640"/>
          </a:xfrm>
          <a:prstGeom prst="roundRect">
            <a:avLst>
              <a:gd name="adj" fmla="val 218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Query locking status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I) :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int_param_handle.locked()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returns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FALS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Lock value using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lock() API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AutoShape 7"/>
          <p:cNvSpPr/>
          <p:nvPr/>
        </p:nvSpPr>
        <p:spPr>
          <a:xfrm>
            <a:off x="4114800" y="1324800"/>
            <a:ext cx="4827600" cy="1733760"/>
          </a:xfrm>
          <a:prstGeom prst="roundRect">
            <a:avLst>
              <a:gd name="adj" fmla="val 97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Query Name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I) : 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int_param_handle.get_name(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Returns Name =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“param_owner.mutable_int_param”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Query Value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I)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: 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int_param_handle.get_cci_value(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Returns Value =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“10”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Query Description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I) : 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int_param_ptr.get_description()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Returns doc =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“This is a mutable type integer parameter”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AutoShape 8"/>
          <p:cNvSpPr/>
          <p:nvPr/>
        </p:nvSpPr>
        <p:spPr>
          <a:xfrm>
            <a:off x="2895480" y="1011240"/>
            <a:ext cx="1011240" cy="284040"/>
          </a:xfrm>
          <a:prstGeom prst="roundRect">
            <a:avLst>
              <a:gd name="adj" fmla="val 37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71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80"/>
                </a:solidFill>
                <a:latin typeface="Bitstream Charter"/>
              </a:rPr>
              <a:t>@ 10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Text Box 9"/>
          <p:cNvSpPr/>
          <p:nvPr/>
        </p:nvSpPr>
        <p:spPr>
          <a:xfrm>
            <a:off x="0" y="71280"/>
            <a:ext cx="914400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9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000" spc="-1" strike="noStrike">
                <a:solidFill>
                  <a:srgbClr val="000099"/>
                </a:solidFill>
                <a:latin typeface="Bitstream Charter"/>
              </a:rPr>
              <a:t>Set and Query Parameter Information (contd.. 6)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AutoShape 10"/>
          <p:cNvSpPr/>
          <p:nvPr/>
        </p:nvSpPr>
        <p:spPr>
          <a:xfrm>
            <a:off x="2779560" y="4363920"/>
            <a:ext cx="1106640" cy="422280"/>
          </a:xfrm>
          <a:prstGeom prst="roundRect">
            <a:avLst>
              <a:gd name="adj" fmla="val 37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80"/>
                </a:solidFill>
                <a:latin typeface="Bitstream Charter"/>
              </a:rPr>
              <a:t>@ 14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AutoShape 11"/>
          <p:cNvSpPr/>
          <p:nvPr/>
        </p:nvSpPr>
        <p:spPr>
          <a:xfrm>
            <a:off x="3984480" y="4911480"/>
            <a:ext cx="4957920" cy="638640"/>
          </a:xfrm>
          <a:prstGeom prst="roundRect">
            <a:avLst>
              <a:gd name="adj" fmla="val 218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Query locking status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I) :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int_param_handle.locked()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returns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TRU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Unlock value using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unlock() API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AutoShape 13"/>
          <p:cNvSpPr/>
          <p:nvPr/>
        </p:nvSpPr>
        <p:spPr>
          <a:xfrm>
            <a:off x="1981080" y="2286000"/>
            <a:ext cx="1981440" cy="6858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831" y="3600"/>
                </a:moveTo>
                <a:lnTo>
                  <a:pt x="-8100" y="3600"/>
                </a:lnTo>
                <a:lnTo>
                  <a:pt x="-8100" y="-3650"/>
                </a:lnTo>
                <a:lnTo>
                  <a:pt x="23482" y="-5250"/>
                </a:lnTo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Reporter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1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Callback Type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pre_read</a:t>
            </a:r>
            <a:endParaRPr b="1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Originator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param_cfgr</a:t>
            </a:r>
            <a:endParaRPr b="1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Rectangle 14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9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P V S Phaneendra</dc:creator>
  <dc:description/>
  <cp:keywords>CTPClassification=CTP_IC:VisualMarkings=</cp:keywords>
  <dc:language>en-US</dc:language>
  <cp:lastModifiedBy>Wieman, Trevor</cp:lastModifiedBy>
  <cp:lastPrinted>2017-01-29T19:35:36Z</cp:lastPrinted>
  <dcterms:modified xsi:type="dcterms:W3CDTF">2017-12-15T20:28:53Z</dcterms:modified>
  <cp:revision>126</cp:revision>
  <dc:subject/>
  <dc:title>ex7_Parameter_Inform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TPClassification">
    <vt:lpwstr>CTP_IC</vt:lpwstr>
  </property>
  <property fmtid="{D5CDD505-2E9C-101B-9397-08002B2CF9AE}" pid="3" name="CTP_BU">
    <vt:lpwstr>PRODUCT DEVELOPMENT SOLUTION</vt:lpwstr>
  </property>
  <property fmtid="{D5CDD505-2E9C-101B-9397-08002B2CF9AE}" pid="4" name="CTP_TimeStamp">
    <vt:lpwstr>2017-12-15 20:28:52Z</vt:lpwstr>
  </property>
  <property fmtid="{D5CDD505-2E9C-101B-9397-08002B2CF9AE}" pid="5" name="TitusGUID">
    <vt:lpwstr>9c3cd9ca-52ed-4274-8e98-0bc921084663</vt:lpwstr>
  </property>
</Properties>
</file>