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59360" cy="37213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1536F-EC44-4D80-8323-DF7FCA7C1D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81590-3CF5-45D7-9ECF-4B2E4F1B28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CF3DC3-B2E2-4CEE-A9FD-30454CFA4E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Text Box 3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BAD4E-B39C-4ED1-9DCC-3BEBF99AED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EE4256-7D70-4681-A43C-8F17B3175D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D3DB2-8763-48CC-913A-D12334E9D7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E2035A-2055-4477-8AB6-9E00F17579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D7DC8-2F99-40FA-BA57-2AB160FCB1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3749C7-0CF9-4570-BBAD-BF0195B0A8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EE6CA-606C-4426-883F-DCF91CDBB6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0BA866-B295-40C6-8AFB-4B8CF9117C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67A87-75C6-41BF-9AFB-408FDE9901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4A8B20-9B47-43FF-8D71-29BA806092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6D774-B07D-4C23-A10F-BBCD47EE7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66724-A49C-43A1-9D3B-699F8E10B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5BD69-4D1A-4C4E-9F0A-96745D041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5544E-38FC-4D8C-ABC3-2D0F3B293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E545D-589A-47BF-809B-3B3C6304D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9CB41-5C0B-4681-92E5-E24511BAC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3470-1DE9-4AA5-97F7-C9A61586E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9A14F-9269-469D-818E-EFB257CD3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68C19-A870-48C8-8401-292DDAF0E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32EB1-31AE-4433-866E-452DD3F38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FC0D1-340E-41ED-8E24-66A46F59E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8210E-A3C2-4359-AECB-C55F006F64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37440"/>
            <a:ext cx="1217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22C6DF-F202-4C63-9592-94E8276C8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fault vs. Preset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ault vs. Preset values of a par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relative precedence of default (supplied to parameter constructor) and preset (via name-based broker access prior to construction) val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User module specifies some default value for different parameters in respective constru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t one of the parameters to a different value from a tool/configurator, before the user module’s constr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Report the various parameters’ name (hierarchical) and value in the constructor and at the end of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the reporting of unconsumed preset values with filtering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141640" y="1546200"/>
            <a:ext cx="1989000" cy="42084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AutoShape 4"/>
          <p:cNvCxnSpPr>
            <a:stCxn id="93" idx="2"/>
          </p:cNvCxnSpPr>
          <p:nvPr/>
        </p:nvCxnSpPr>
        <p:spPr>
          <a:xfrm flipH="1">
            <a:off x="3134520" y="1966680"/>
            <a:ext cx="2520" cy="40266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5"/>
          <p:cNvCxnSpPr>
            <a:stCxn id="94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AutoShape 6"/>
          <p:cNvSpPr/>
          <p:nvPr/>
        </p:nvSpPr>
        <p:spPr>
          <a:xfrm>
            <a:off x="1138320" y="309708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1=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36880" y="200808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176640" y="2743200"/>
            <a:ext cx="2979720" cy="2649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ff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1(“param_1”, 1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179880" y="3076560"/>
            <a:ext cx="2979720" cy="26208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2(“param_2”, 2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173240" y="353700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2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572000" y="196056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sim_ip.param_1”, “10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6742080" y="4149720"/>
            <a:ext cx="1933560" cy="763560"/>
          </a:xfrm>
          <a:prstGeom prst="wedgeRoundRectCallout">
            <a:avLst>
              <a:gd name="adj1" fmla="val -77194"/>
              <a:gd name="adj2" fmla="val -204425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takes precedence over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faul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(see param_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4572000" y="229068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cfg_ip.param_implicit_3”, “3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6948360" y="2976480"/>
            <a:ext cx="2119320" cy="244440"/>
          </a:xfrm>
          <a:prstGeom prst="wedgeRoundRectCallout">
            <a:avLst>
              <a:gd name="adj1" fmla="val -42587"/>
              <a:gd name="adj2" fmla="val -200282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133720" y="1246320"/>
            <a:ext cx="1989000" cy="42048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" name="AutoShape 4"/>
          <p:cNvCxnSpPr>
            <a:stCxn id="109" idx="2"/>
          </p:cNvCxnSpPr>
          <p:nvPr/>
        </p:nvCxnSpPr>
        <p:spPr>
          <a:xfrm>
            <a:off x="3126960" y="1666440"/>
            <a:ext cx="2520" cy="432684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5"/>
          <p:cNvCxnSpPr>
            <a:stCxn id="110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 Box 7"/>
          <p:cNvSpPr/>
          <p:nvPr/>
        </p:nvSpPr>
        <p:spPr>
          <a:xfrm>
            <a:off x="241560" y="169704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Si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5"/>
          <p:cNvSpPr/>
          <p:nvPr/>
        </p:nvSpPr>
        <p:spPr>
          <a:xfrm>
            <a:off x="5391000" y="2036880"/>
            <a:ext cx="345600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cci-&gt;set_init_value(“sim_ip.param_1”, “5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659640" y="2736720"/>
            <a:ext cx="2222280" cy="763560"/>
          </a:xfrm>
          <a:prstGeom prst="wedgeRoundRectCallout">
            <a:avLst>
              <a:gd name="adj1" fmla="val 48055"/>
              <a:gd name="adj2" fmla="val -107018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set after construction does not affect parameter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755640" y="2521080"/>
            <a:ext cx="439272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param_implicit_1”, “1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755640" y="2876400"/>
            <a:ext cx="43927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foo.bar.baz.param_implicit_2”, “2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ight Brace 2"/>
          <p:cNvSpPr/>
          <p:nvPr/>
        </p:nvSpPr>
        <p:spPr>
          <a:xfrm>
            <a:off x="5148360" y="2635200"/>
            <a:ext cx="187200" cy="482760"/>
          </a:xfrm>
          <a:custGeom>
            <a:avLst/>
            <a:gdLst>
              <a:gd name="textAreaLeft" fmla="*/ 0 w 187200"/>
              <a:gd name="textAreaRight" fmla="*/ 67680 w 187200"/>
              <a:gd name="textAreaTop" fmla="*/ 4680 h 482760"/>
              <a:gd name="textAreaBottom" fmla="*/ 47808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0"/>
                  <a:pt x="10800" y="699"/>
                </a:cubicBezTo>
                <a:lnTo>
                  <a:pt x="10800" y="10448"/>
                </a:lnTo>
                <a:cubicBezTo>
                  <a:pt x="10800" y="10798"/>
                  <a:pt x="16200" y="11147"/>
                  <a:pt x="21600" y="11147"/>
                </a:cubicBezTo>
                <a:cubicBezTo>
                  <a:pt x="16200" y="11147"/>
                  <a:pt x="10800" y="11497"/>
                  <a:pt x="10800" y="11846"/>
                </a:cubicBezTo>
                <a:lnTo>
                  <a:pt x="10800" y="20901"/>
                </a:lnTo>
                <a:cubicBezTo>
                  <a:pt x="10800" y="2125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3851280" y="3446640"/>
            <a:ext cx="2195640" cy="342720"/>
          </a:xfrm>
          <a:prstGeom prst="wedgeRoundRectCallout">
            <a:avLst>
              <a:gd name="adj1" fmla="val 20902"/>
              <a:gd name="adj2" fmla="val -218759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ex05_Default_and_Preset_Value.log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80880" y="141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Attempting to setup config_ip to 10 before IP constr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sim_ip.param_1's preset value to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cfg_ip.param_implicit_3's preset value to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1 is 10 (Default value Specified: 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2 is 2 (Default value Specified: 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execute: [EXTERNAL] Current value of sim_ip.param_1 is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param_implicit_1's preset value to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foo.bar.baz.param_implicit_2's preset value to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cfg_ip.param_implicit_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Ignore unconsumed values cfg_ip.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resu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80880" y="134136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with value = 2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End Simulation.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1 is 10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2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7:21:23Z</cp:lastPrinted>
  <dcterms:modified xsi:type="dcterms:W3CDTF">2017-12-15T17:44:00Z</dcterms:modified>
  <cp:revision>158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17:43:59Z</vt:lpwstr>
  </property>
  <property fmtid="{D5CDD505-2E9C-101B-9397-08002B2CF9AE}" pid="5" name="TitusGUID">
    <vt:lpwstr>76883866-3039-4c24-b240-4506b7a28644</vt:lpwstr>
  </property>
</Properties>
</file>