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D0E4-93A0-4EB9-8EC2-954633251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B2C1-4B84-42AA-A3E8-CE2BB6100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6CE6-F448-4BAA-92EA-85B1FBAC7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ECD2-EFF5-4D7D-8F32-2EDB162E7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E7CE-1A0E-4B7C-81CF-E162C1989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03F8-90A9-49FB-90AA-E52C11A72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031C-A69A-4B58-896E-01D5996F8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3C332-E30F-4110-AD83-D06D02F9A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6061-8D02-4BF9-B9C0-F463CA021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2EBBC-75CD-415E-B391-2AFD2B054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2D53C-BF85-4BCA-B4E9-658844395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5D32-3AC2-48E9-BD9B-FEE2291F5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F5D51-2DF2-42BF-98EA-2F6FB2DE4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BDDF2-B362-4DCB-ACE0-C319BFFAD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AD8F-0B5C-4447-8123-5FA455441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12054-DD52-4B8B-B80C-4BD1A5FBA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D4BF2-27D4-4B0E-AD78-AF2A0FB0E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C347-0453-41E4-84B9-10736833B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2B73-AD28-4A82-BE2E-B33539CFE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Value Change callback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eshadri Chakravart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rameter Value Change callba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requesting and responding to value change notif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odule creates couple of parameters and sets callbacks on both of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1, the user module would allow value change without any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2, the user module would reject value change uncondition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Picture 4" descr="cci_ex8.jpeg"/>
          <p:cNvPicPr/>
          <p:nvPr/>
        </p:nvPicPr>
        <p:blipFill>
          <a:blip r:embed="rId1"/>
          <a:stretch/>
        </p:blipFill>
        <p:spPr>
          <a:xfrm>
            <a:off x="138240" y="700200"/>
            <a:ext cx="8867520" cy="54576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7"/>
          <p:cNvSpPr/>
          <p:nvPr/>
        </p:nvSpPr>
        <p:spPr>
          <a:xfrm>
            <a:off x="2093760" y="5370480"/>
            <a:ext cx="6921720" cy="689040"/>
          </a:xfrm>
          <a:prstGeom prst="leftArrowCallout">
            <a:avLst>
              <a:gd name="adj1" fmla="val 14751"/>
              <a:gd name="adj2" fmla="val 25000"/>
              <a:gd name="adj3" fmla="val 123243"/>
              <a:gd name="adj4" fmla="val 365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Observe that since write is rejec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for param_2 reject_write callback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no other callbacks are trigger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br>
              <a:rPr sz="32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08_Parameter_Value_Change_Callbacks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1 is 1 (Default value Specified: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2 is 2 (Default value Specified: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1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ost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Current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2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reject_pre_write_callback: Rejecting Value change on sim_ip.param_2 (2 -&gt; 2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0 s, Caught exception: Error: /Accellera/CCI/SET_PARAM_FAILED: Value rejected by callback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cfg_ip: @0 s, config_ip::end_of_elaboration: [EXTERNAL] Current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1 (10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5T20:36:41Z</dcterms:modified>
  <cp:revision>149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36:41Z</vt:lpwstr>
  </property>
  <property fmtid="{D5CDD505-2E9C-101B-9397-08002B2CF9AE}" pid="5" name="TitusGUID">
    <vt:lpwstr>e91f1e81-ec8b-4b29-aa9d-61454af1454c</vt:lpwstr>
  </property>
</Properties>
</file>