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E80BE-DBD6-42A6-BCBF-3DBCFB9AF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9861C-83F3-4D15-8D4A-EE72BB3CDC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24311-C60B-472F-A810-53DEF4E407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A5C7B-B4BF-4B3D-B3E8-4F1F5C811A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64C94-ED43-4B01-B3A7-24D931BCA1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20DD3-23E4-42C2-9BF3-D3B3EA936C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C1D75-73BB-42F3-8700-92CCCA5AA2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9187D-922C-4966-9434-EB5C84BF82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EA548-9536-40CC-83CB-DAB8DCCA15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807D6-FD4E-425F-8DFC-C614B8D6A8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664E0-4345-4CC6-ADDB-80BE0589DF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D4C8F-5043-4FB8-9EE5-C782A9D91F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E9030-A1FE-49E0-8CB0-6FBCEF0088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A14F2-8625-4CA2-A282-32C2049B20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E5AAB-646B-4D79-BC60-4AB490D00E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E3652-6954-4B46-8355-0F87283334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F2F59-EAB9-4EBB-B10B-2D073A159C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07E0B-F05F-478D-A3D4-32224B4081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FB543-DDA1-4276-A689-4D73CD0B63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3C02D-CC5D-406A-9C53-E6612BDDBE8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44D35-BFF9-4868-9F70-8AE18FD34F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57009-FB29-440C-892D-431854F1D6D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A51C0-2A0D-468B-87B9-ABD657A97C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F1622-B8C0-4B59-BC9C-CE7E9BC232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1F238-B246-4B91-B331-C7CB27C04B0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951B6-D3B4-4525-A423-CD31894106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B165A-4B35-4A39-8657-622023519D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8B1EC-9B1C-4EF3-A52F-73A8F1B6177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3C7B9-21FA-4C98-8770-0F06A72DF95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6A60D-4085-4D78-9C0D-E78F757B039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75094-D52E-4A5A-A344-2F0849D825B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CE24F-E808-4BE0-98AE-A11EF402D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46058-18A1-4BBF-B10C-A19ED70D5A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19D86-D993-4B00-A641-BCFEF6B5EB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D28A8-2271-425E-B05B-54BE79C0FA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3FCA6-9E1E-41FB-A05B-3DF7F0ADCC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0A4C9-B714-4988-ACD4-3BC061D1C9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EAB70-5B8D-4A7F-8074-15B0026EDC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59EBA-A891-4D2B-8A08-184901CE8D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0D880206-EEEE-4A36-BCD1-9158F44B6C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1"/>
          <p:cNvSpPr/>
          <p:nvPr/>
        </p:nvSpPr>
        <p:spPr>
          <a:xfrm>
            <a:off x="380880" y="3067200"/>
            <a:ext cx="8331480" cy="6397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Hierarchical Value Update Examp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3276720" y="4572000"/>
            <a:ext cx="38862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Lei Lian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Ericsson AB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December, 201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2895480" y="3809880"/>
            <a:ext cx="3591000" cy="5065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 fontScale="9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1"/>
          <p:cNvSpPr/>
          <p:nvPr/>
        </p:nvSpPr>
        <p:spPr>
          <a:xfrm>
            <a:off x="236520" y="220680"/>
            <a:ext cx="86868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Value Upd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pdate all parameters which matches to a given name pattern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"/>
          <p:cNvSpPr/>
          <p:nvPr/>
        </p:nvSpPr>
        <p:spPr>
          <a:xfrm>
            <a:off x="838080" y="1143000"/>
            <a:ext cx="762012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c_ma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1447920" y="1752480"/>
            <a:ext cx="198108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m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5943600" y="1752480"/>
            <a:ext cx="190512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fg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rget of this module is to update all parameters whose name matches the pattern “log_level” and in this example they ar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sub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1752480" y="3048120"/>
            <a:ext cx="1600200" cy="22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b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Folded Corner 41"/>
          <p:cNvSpPr/>
          <p:nvPr/>
        </p:nvSpPr>
        <p:spPr>
          <a:xfrm>
            <a:off x="1917720" y="21718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Folded Corner 41"/>
          <p:cNvSpPr/>
          <p:nvPr/>
        </p:nvSpPr>
        <p:spPr>
          <a:xfrm>
            <a:off x="1917720" y="24382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Folded Corner 41"/>
          <p:cNvSpPr/>
          <p:nvPr/>
        </p:nvSpPr>
        <p:spPr>
          <a:xfrm>
            <a:off x="1917720" y="270504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ight Brace 5"/>
          <p:cNvSpPr/>
          <p:nvPr/>
        </p:nvSpPr>
        <p:spPr>
          <a:xfrm>
            <a:off x="3365640" y="2192400"/>
            <a:ext cx="291960" cy="723960"/>
          </a:xfrm>
          <a:custGeom>
            <a:avLst/>
            <a:gdLst>
              <a:gd name="textAreaLeft" fmla="*/ 0 w 291960"/>
              <a:gd name="textAreaRight" fmla="*/ 105480 w 29196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3563640" y="241452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im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Folded Corner 41"/>
          <p:cNvSpPr/>
          <p:nvPr/>
        </p:nvSpPr>
        <p:spPr>
          <a:xfrm>
            <a:off x="1854360" y="444168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Folded Corner 41"/>
          <p:cNvSpPr/>
          <p:nvPr/>
        </p:nvSpPr>
        <p:spPr>
          <a:xfrm>
            <a:off x="1854360" y="470844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Folded Corner 41"/>
          <p:cNvSpPr/>
          <p:nvPr/>
        </p:nvSpPr>
        <p:spPr>
          <a:xfrm>
            <a:off x="1854360" y="497520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ight Brace 33"/>
          <p:cNvSpPr/>
          <p:nvPr/>
        </p:nvSpPr>
        <p:spPr>
          <a:xfrm>
            <a:off x="3301920" y="4462560"/>
            <a:ext cx="292320" cy="723960"/>
          </a:xfrm>
          <a:custGeom>
            <a:avLst/>
            <a:gdLst>
              <a:gd name="textAreaLeft" fmla="*/ 0 w 292320"/>
              <a:gd name="textAreaRight" fmla="*/ 105480 w 29232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Box 34"/>
          <p:cNvSpPr/>
          <p:nvPr/>
        </p:nvSpPr>
        <p:spPr>
          <a:xfrm>
            <a:off x="3498840" y="4684680"/>
            <a:ext cx="189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ub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3" name="Straight Arrow Connector 16"/>
          <p:cNvCxnSpPr>
            <a:stCxn id="201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4" name="Straight Arrow Connector 17"/>
          <p:cNvCxnSpPr>
            <a:stCxn id="202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5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Folded Corner 43"/>
          <p:cNvSpPr/>
          <p:nvPr/>
        </p:nvSpPr>
        <p:spPr>
          <a:xfrm>
            <a:off x="5456160" y="2112840"/>
            <a:ext cx="2468520" cy="3049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m_broker.get_param_handles(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Speech Bubble: Rectangle with Corners Rounded 10"/>
          <p:cNvSpPr/>
          <p:nvPr/>
        </p:nvSpPr>
        <p:spPr>
          <a:xfrm>
            <a:off x="6527880" y="2816280"/>
            <a:ext cx="2539800" cy="145080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n printed the value for all parameters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Straight Arrow Connector 16"/>
          <p:cNvCxnSpPr>
            <a:stCxn id="209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Straight Arrow Connector 17"/>
          <p:cNvCxnSpPr>
            <a:stCxn id="210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3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Folded Corner 43"/>
          <p:cNvSpPr/>
          <p:nvPr/>
        </p:nvSpPr>
        <p:spPr>
          <a:xfrm>
            <a:off x="5105520" y="2112840"/>
            <a:ext cx="3276360" cy="478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ci::cci_param_filter_iterator log_level_pfi =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broker.get_param_handles(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red_it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Speech Bubble: Rectangle with Corners Rounded 10"/>
          <p:cNvSpPr/>
          <p:nvPr/>
        </p:nvSpPr>
        <p:spPr>
          <a:xfrm>
            <a:off x="6508800" y="2895480"/>
            <a:ext cx="2539800" cy="115416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predicate function to get all parameter which match the name pattern “log_level” and they are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9" name="Straight Arrow Connector 16"/>
          <p:cNvCxnSpPr>
            <a:stCxn id="2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Straight Arrow Connector 17"/>
          <p:cNvCxnSpPr>
            <a:stCxn id="2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1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Folded Corner 43"/>
          <p:cNvSpPr/>
          <p:nvPr/>
        </p:nvSpPr>
        <p:spPr>
          <a:xfrm>
            <a:off x="5257800" y="2289240"/>
            <a:ext cx="3276720" cy="326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set_cci_value(target_value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Speech Bubble: Rectangle with Corners Rounded 12"/>
          <p:cNvSpPr/>
          <p:nvPr/>
        </p:nvSpPr>
        <p:spPr>
          <a:xfrm>
            <a:off x="6599160" y="3052800"/>
            <a:ext cx="2324160" cy="692280"/>
          </a:xfrm>
          <a:prstGeom prst="wedgeRoundRectCallout">
            <a:avLst>
              <a:gd name="adj1" fmla="val -37013"/>
              <a:gd name="adj2" fmla="val -10431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update parameter value to target_value(500)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Folded Corner 43"/>
          <p:cNvSpPr/>
          <p:nvPr/>
        </p:nvSpPr>
        <p:spPr>
          <a:xfrm>
            <a:off x="5257800" y="4002120"/>
            <a:ext cx="3276720" cy="434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nam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cci_valu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Speech Bubble: Rectangle with Corners Rounded 14"/>
          <p:cNvSpPr/>
          <p:nvPr/>
        </p:nvSpPr>
        <p:spPr>
          <a:xfrm>
            <a:off x="6599160" y="4905360"/>
            <a:ext cx="2324160" cy="917640"/>
          </a:xfrm>
          <a:prstGeom prst="wedgeRoundRectCallout">
            <a:avLst>
              <a:gd name="adj1" fmla="val -37013"/>
              <a:gd name="adj2" fmla="val -9511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print parameter value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3_Hierarchical_Value_Updat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0880" y="1514160"/>
            <a:ext cx="86868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parameters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Update all 'log_Level' parameters' value to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6:03:05Z</dcterms:modified>
  <cp:revision>85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6:03:05Z</vt:lpwstr>
  </property>
  <property fmtid="{D5CDD505-2E9C-101B-9397-08002B2CF9AE}" pid="5" name="TitusGUID">
    <vt:lpwstr>522d689a-30a7-4b0c-9d2d-5977e3992383</vt:lpwstr>
  </property>
</Properties>
</file>